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98F-B586-4C20-815C-65712DA8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045-5876-40A4-8AF4-D5A1E05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D7B-6D93-443B-83EB-38D6CB68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6BC-D72D-402A-A0BF-02A66F8D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55E-DD14-4EEF-828C-712B4834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453-6947-4FEE-8CF4-4A62F31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A4BA-C4E5-48A9-B03F-8B030B8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2041-1B1F-4922-8835-E9F38778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791F-118D-443F-B21D-632200C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5DE-5238-4C14-A4CF-6245C61F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504-C513-4F7B-943C-2C9452D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48C-56EC-494F-8E42-0559622A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9CF7-2EDA-4C6D-A208-A818E22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8246-79C7-4B32-A565-484B3E3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E9D-2F06-4566-8587-095862D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C635-E53C-4404-BC9D-6EC3371D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272-2FCF-43E6-8863-F7E15EA7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2057-9EDC-46CF-B6D5-9AD5287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E55C-F697-44AF-8A4A-36027F2B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B1E0-34C4-41A2-99DB-3CF3BB1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ADDD-4E4A-4445-9892-800087F7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0FBA-FC2B-4788-9515-C979AF3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26E-1D0A-49DE-8C95-2AB45D25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3EA2-5420-42AD-8024-16999FB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258A-0623-4650-8703-CE43395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7DC2-3759-408F-8489-349E144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A740-FC56-47F5-B643-8C5A13E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FCD7-5AEE-4E6E-83D4-6F6A314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63EC-6DB5-4673-841B-0AC4AD6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DF51-5AA4-4C54-A0C8-EE8ACFFE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54AD-9CBC-47F9-8D8F-F16153AB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9D489-7106-4878-81E9-0BC6FD3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F6AB-9D88-4F1E-9C3E-A4D2CD8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FAE-A2EE-4866-A84E-D6C212D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AAE3-922D-4BB4-A60E-4B9B7B4A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BC45-3869-43E9-B4D3-46D1AF9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E2DC-7059-438A-9FB9-615EB3C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5835-2883-47E0-9ABF-728E97A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0A92-FEAC-410E-A02B-883FCB2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1742-093B-49CE-9010-A778C33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AFD9-BD94-40B8-98F2-361D2024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80B0-C266-4A8D-A29E-4E37AC8F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40DC-D1C4-434C-8538-35A18221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C757-D2FB-4A2B-BDAC-B4E0894A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1C1-124A-42AD-93F2-A7FCFBF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DEB5-8029-4057-8C9E-4730D0C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6AB9-1368-40CE-AE83-2827188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BEBF-FE5D-4252-8B87-E05C2FC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5F902-FDF1-4089-A9FA-59FA2164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0A2C-BDEE-4B7A-B50E-1E371E0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9A13-6700-4E87-AC5B-91A2E7A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481E-1E20-4163-A8A5-5E41796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2BE5-4080-43E0-85F7-93CD0F3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2CD9-981A-423D-8B50-21113ED4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66D34-3BAF-43F1-8632-2F9F1F9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318-D034-48FD-9C9F-FFC9757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A159D-EC92-4F21-9D8B-ABA344D9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B2DA-5CA6-41CE-A3F2-98648304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FFC3-4B43-4360-84BD-6F13F37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5DCA-5186-4A28-86FA-3774423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0CD8C-15FB-4BC9-9FB7-485C4E9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1B40-0966-4463-BB05-5B7833A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34AE-230C-494F-80AB-2537EE0C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4173A-5C85-40E7-BB3F-6C375D0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B69A-979F-48A3-A352-6BB6B3B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18DC-81FC-4682-8EC6-4C9BC3A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08D-2790-4E11-BF86-63D9DB2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094C-F7A1-4654-9013-06A7C4E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B852-E802-4530-B612-7DD2DDD3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AA192-1603-4160-8F3E-BEE8D65F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1744-6FF8-43DC-802F-B7B9E781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C543D-B13B-4831-A091-FAF1B6F0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9E1F-A780-4735-A90D-CD06080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DCC2-60FE-4346-B59A-5A38BC7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FEA5-A046-4222-9B7C-30204D3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011A-20D0-4359-A344-626E66B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9921-1691-424A-AC1C-CFAA858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1CC-7058-4FBC-AF01-3E17976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078EA-14A3-47D2-A5E4-A36905E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62AF-1A43-4EF4-B8F3-77B04AF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A3B27-264B-4DAB-ABB4-D7ECECA9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8B99-B41B-4946-8F96-3BFF7FA7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B841-4648-4F8E-825F-76EBB1C0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1B5-1C20-48C3-BA2F-3540A7D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7E3E-5744-4FA3-A6D7-A665C499CD0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A37E-3A48-4B60-8375-D2235E1FA74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972-1FE6-4AE4-AAE7-87528A9777B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E62-A07F-4C9A-B305-DC403CB0EBA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FD6-31E6-4674-8483-9B9FB0F7B1E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544-5318-485A-97F0-7C45B03DC6D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D74B-4862-4059-9B0F-80BE2930B28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5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138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06200" y="1413000"/>
            <a:ext cx="90378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Крупецкого сельсовета от 17.12.2014 №53 «О бюджете муниципального образования «Крупецкой сельсовет» Дмитриевского района Курской области  на 2015 год и на плановый период 2016 и 2017 годов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Крупецкого сельсовета от 30.12.2015 №105 «О внесении изменений в решение Собрания депутатов Крупецкого сельсовета  от 17.12.2014 №53 «О бюджете муниципального образования «Крупецкой сельсовет» Дмитриевского района  Курской области на 2015 год и на плановый период 2016 и 2017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92896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8,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1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43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3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5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42920" y="798480"/>
          <a:ext cx="7607520" cy="561996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5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15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7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5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АЯ  ПОШЛ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3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7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7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5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.-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86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7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5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2240" y="857160"/>
          <a:ext cx="8267400" cy="577224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подготовка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214200" y="214200"/>
          <a:ext cx="8245440" cy="49672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жилищно-коммунального хозя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6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Диаграмма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772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5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706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43,3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113,4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43,3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Прямая со стрелкой 6"/>
          <p:cNvCxnSpPr>
            <a:stCxn id="337" idx="3"/>
            <a:endCxn id="338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14"/>
          <p:cNvCxnSpPr>
            <a:stCxn id="337" idx="4"/>
            <a:endCxn id="339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Krypec</cp:lastModifiedBy>
  <dcterms:modified xsi:type="dcterms:W3CDTF">2016-04-28T10:20:37Z</dcterms:modified>
  <cp:revision>3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