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1C5-E38C-4B0C-8528-13ABD235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7AD-04F5-4003-AE4F-69B4240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F9B-AD3E-479E-86F4-69AB604A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323-A658-400D-A4CB-B685749A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F581-3BE8-4E31-8B40-A0B0AC3E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E04C-869E-454C-BCB5-95065010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B62D-60BD-47F3-AAD2-3A69F70C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8E31-F9BB-463B-85B4-6AEB85C9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4B58-3DE6-4807-B845-24116A35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DDC7-C827-4909-AF86-CC24BAF7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0E60-4180-4D19-8968-DE9963C7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C1C-13FB-42F6-9AEC-03F8A9ED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1350-788A-42BE-A30F-491E688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B537-728E-4607-9242-D00EC50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7A27-2BD5-41ED-B276-B1A851E5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4D75-DD34-4652-8103-8740FE2F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41C1-3E15-46B0-AED8-61126D2C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7F81-B818-42F0-9AAA-B6F9B536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6AA7-4173-4F8C-A054-1D4A270D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41BF-1EBC-4F02-B7ED-59225121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7220-7C82-4CEA-B211-0F921F71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3F4E-8A2C-466C-8189-B6CBBF7F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84A-DFF7-448B-A502-C2434C6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9ABA-6A21-4ADC-8AD2-F293013F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77CB-4C8D-4AB6-BF1B-C50E818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2680-E0B2-4D48-8289-F2B3886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77DB-2521-4F3C-A91C-78CF73CC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E36C-BD73-4C06-B243-62CDDB70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9FBF-F983-4E68-865C-EC6A9C66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55A5-339A-486B-B9D9-4E543361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6A99-3A68-47A5-BAEC-5C37D332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349AF-25D4-47BB-A362-9F514397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8C8B-8AF2-4C23-AD6C-D3CBA8AE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CDB-2A4E-432B-90C9-F66803D8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0818-F2C2-4F90-AF71-DC23648C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4F58-624D-4BCB-B2F2-7DA47040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C1E6-8786-40F3-9451-60832C44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E667-0AF6-450F-A599-169AE24E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3D65-613E-46E0-A21F-E52C866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F3BD4-9FA3-486E-B71C-C123301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C137-29CF-43CD-9588-1F8B8C52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1E576-A3C4-4ADE-ADDC-57A589C5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7708-7C27-4A26-A0B9-EFDFCD15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A48-8695-4553-B927-F8150B35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2BB-6687-4A40-86A4-FC51431B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AAC-1D75-401B-96DC-1B0BE638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F03-549E-49F9-B919-97FE695F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8A0-C18E-4A5C-B914-CD87FAE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ACB-6CEA-4AE1-A511-2AA62023143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EF7E-FC82-457A-9B36-2521700807CF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EBE4-878A-4925-B948-C936A25B9410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527A-37AA-43AD-BE66-D09E83FF054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19.12.2016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137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17 год и на плановый период 2018 и 2019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3139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7052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17-2019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17-2019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17-2019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17-2019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17-2019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66560"/>
          <a:ext cx="8318520" cy="254664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17-2019 г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17-2019 г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51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306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82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894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17-2019 годы утверждён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17 год  и на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18 и 2019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уплаты акцизов на нефтепродукты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89978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Krypec</cp:lastModifiedBy>
  <dcterms:modified xsi:type="dcterms:W3CDTF">2016-12-27T09:43:01Z</dcterms:modified>
  <cp:revision>185</cp:revision>
  <dc:subject/>
  <dc:title>Презентация PowerPoint</dc:title>
</cp:coreProperties>
</file>