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59F-548D-4D1E-B93B-6D43E1D3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A08-6E16-4081-8C52-195ACAAB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6AF-EC58-42C5-A65A-3F4AF6B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1D9-A3D9-4889-A979-C6BEF996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A3B7-C414-4E4C-BB28-1F03A9AB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A01-C2B3-4F3A-BF25-9848685B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67B6-69F9-4A4F-8618-E9F6B930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4CDB-66F2-4FA5-B646-2AD26565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8E63-BB3B-46F3-AABF-31A27B02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2B76-4882-42E8-8B24-9D6774A3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72A9-6DB0-4BCF-8BBA-2815532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E3A-7178-4674-A20C-CD46FBF3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9352-16D9-4DE7-A997-9DEA5C0A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51D-8F81-4A1D-A201-41879D3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776-DB44-4AAB-9F87-A63B9EF7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0AE6-0A1E-4D8E-8176-6809D7F0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018-A877-4696-BD77-CB8AB1B9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33A7-4543-4782-AE61-57B9C5AD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C332-F29E-4B28-AF83-B1B71E25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4A8F-238F-47B2-87B3-3C0E5D41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8F31-1900-4805-B94E-688D881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1C7A-29CF-4568-B110-E4468500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D30-91DF-4FE7-8794-335F88C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1B1F-7D9F-45CB-A5D2-C2C9B3D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9623-8657-42AE-BA7B-DD8C5AE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E4FC-2FDA-4D88-BE98-350E585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4EDA-07FF-4C7D-B92A-4B1D2FEC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CCFC-17E7-420D-83CE-76411430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C8BA-5AD4-4057-AC41-F00FF7CE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6157-3497-4C74-A8F4-3532F865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3C90-D4D9-4191-9BF0-20E3FBB5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53E0-A03B-4F20-B1DF-F55EE81F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7250-30E5-42A5-A65C-C9891452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C2D-66BA-4040-AC1C-CB3D1479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D71F-6D23-40D3-81E9-E29ADFF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9C50-DC92-4F4D-9EE5-04CDFB3F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2DBC6-18A4-44BC-AD75-236415CF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EF86-A298-495D-AE89-1C62125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D03E-D514-4E10-9956-73CA634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EEBC-56AF-4338-92AD-CEF9AF6B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A945-E97F-4AB8-9A8E-F1297618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4F02-E50D-4279-B8B9-3FDB85B7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1599-35A6-424A-A43C-6FE48DDC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838D-31C7-45E7-B9C8-67E87CE3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F8E-D516-4FCC-9135-D4D5BED9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2876-8293-42A8-8D6E-0F3B6D46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0905-4920-4B67-A1A8-8465352B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B118A-E864-4E47-9028-BEA824B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09D62-DAFD-4A5A-8EB2-43F10FAB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CB2A-6780-4305-8E95-87BB209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D3AE-C563-4C6F-B4CA-06DBFA5A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33E7-C765-4B6D-9DC6-EEFAFB0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BE5F4-7A66-4B2F-94A6-668446E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1BC30-F591-4EB5-9379-929BA6B7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D6DF-C538-4D15-A3AB-6FDB498D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992-1529-49E7-AD36-F8414CD9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96B8-10BC-45D9-984C-3D344DDF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3D06-A5DA-40EA-BB85-6397BF6A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7ED4-CBEE-4B05-B242-C2F00FA4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3CCBC-D09C-41C3-8BBA-F1F043F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133D-24C8-437E-A131-1612C472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B1EF-3096-487B-9B24-63F246B9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8B3C-2009-47B5-A77C-A5C26AF5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DDF69-9CC0-4E19-A695-C2B49E51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328C0-90AE-47E2-B1EE-09F2DFE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B63A-A64E-42AA-9127-B2EF6D15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843-EA8A-4A15-BCED-BFACF62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59F47-729D-4214-8165-4221C52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EF691-62DB-4E89-A3D4-6694200E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D7CE-C55E-466B-A216-9E838612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A752-745B-4D87-AFC9-8C3B0DB4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354B4-1B25-45EC-82A1-46B3F071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0C434-FDE3-426C-B88E-3F303097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C67E-87D3-4FFC-9438-5ED949D0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A757-43E1-4DDE-A831-337C2F68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12C38-922D-47DE-A2C1-256B75BF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DE469-EE03-4D6A-AFDE-655DDFE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DE1-96C6-4F6E-A5AD-F2FF69C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2379-8F51-484D-A58F-8CF24A3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640C-CBE0-4A99-94F1-6F48B0DB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6A60-7475-4C20-93F1-2AE049C9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A8D02-BF2A-42A1-8A8E-162146DE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1DB6-1CFB-42B3-80DE-36C54197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7A0-2C77-4D5F-B094-311CA28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187D-7E92-45FD-98F7-970AC66A847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9AF-B2D8-47EE-8C84-A57F5DEE615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3A1D-03FF-4F88-8B72-0F5BDC0126C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987D-5915-4D13-A5D5-188F166115C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4F4D-D44F-470C-8E4C-3A16779E585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9DBD-4A5C-4CD7-949A-2EB7032C04B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CDD7-63D5-4D0C-91FD-A4D2376B76C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5"/>
          <p:cNvSpPr/>
          <p:nvPr/>
        </p:nvSpPr>
        <p:spPr>
          <a:xfrm>
            <a:off x="928800" y="25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6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928800" y="1989000"/>
            <a:ext cx="781992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134,3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«Крупецкой сельсовет» Дмитри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урской области за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143000" y="1413000"/>
            <a:ext cx="76438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Крупецкого сельсовета от 15.12.2015г. №104 «О бюджете муниципального образования «Крупецкой сельсовет» Дмитриевского района Курской области  на 2016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Крупецкого сельсовета от 30.12.2016 №138 «О внесении изменений в решение Собрания депутатов Крупецкого сельсовета  от 15.12.2014г. №104 «О бюджете муниципального образования «Крупецкой сельсовет» Дмитриевского района  Курской области на 2016 год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Крупец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Курской области за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071800" y="1000080"/>
          <a:ext cx="6072120" cy="2857680"/>
        </p:xfrm>
        <a:graphic>
          <a:graphicData uri="http://schemas.openxmlformats.org/drawingml/2006/table">
            <a:tbl>
              <a:tblPr/>
              <a:tblGrid>
                <a:gridCol w="3035160"/>
                <a:gridCol w="303696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4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64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42920" y="798480"/>
          <a:ext cx="7607520" cy="602604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016 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7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7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8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 использования имущества, находящегося в государственной и 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8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5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69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64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3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8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8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26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21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47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42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6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2240" y="857160"/>
          <a:ext cx="8267400" cy="617688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подготовка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последствий чрезвычайных ситуаций природного и техногенного характера, гражданск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ервичных мер пожарной безопасности в границах населенных пунктов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14200" y="214200"/>
          <a:ext cx="8245440" cy="50230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91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ad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6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5"/>
          <p:cNvSpPr/>
          <p:nvPr/>
        </p:nvSpPr>
        <p:spPr>
          <a:xfrm>
            <a:off x="1071720" y="1260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Диаграмма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772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5"/>
          <p:cNvSpPr/>
          <p:nvPr/>
        </p:nvSpPr>
        <p:spPr>
          <a:xfrm>
            <a:off x="1071720" y="2556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6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636,7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альтернативный процесс 4"/>
          <p:cNvSpPr/>
          <p:nvPr/>
        </p:nvSpPr>
        <p:spPr>
          <a:xfrm>
            <a:off x="857160" y="2538360"/>
            <a:ext cx="300060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27,0 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альтернативный процесс 7"/>
          <p:cNvSpPr/>
          <p:nvPr/>
        </p:nvSpPr>
        <p:spPr>
          <a:xfrm>
            <a:off x="5435640" y="2492280"/>
            <a:ext cx="306540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109,7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5"/>
          <p:cNvSpPr/>
          <p:nvPr/>
        </p:nvSpPr>
        <p:spPr>
          <a:xfrm>
            <a:off x="1357200" y="4508640"/>
            <a:ext cx="214308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27,0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6"/>
          <p:cNvCxnSpPr>
            <a:stCxn id="336" idx="3"/>
            <a:endCxn id="337" idx="0"/>
          </p:cNvCxnSpPr>
          <p:nvPr/>
        </p:nvCxnSpPr>
        <p:spPr>
          <a:xfrm flipH="1">
            <a:off x="2356560" y="2319480"/>
            <a:ext cx="23724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1" name="Прямая со стрелкой 14"/>
          <p:cNvCxnSpPr>
            <a:stCxn id="336" idx="4"/>
            <a:endCxn id="338" idx="0"/>
          </p:cNvCxnSpPr>
          <p:nvPr/>
        </p:nvCxnSpPr>
        <p:spPr>
          <a:xfrm flipV="1">
            <a:off x="4716360" y="2491560"/>
            <a:ext cx="22536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3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Krypec</cp:lastModifiedBy>
  <dcterms:modified xsi:type="dcterms:W3CDTF">2017-04-26T11:01:41Z</dcterms:modified>
  <cp:revision>3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