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F726-876B-47EB-8555-BC651A730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CE8D-80A8-4A0F-A33D-D78DDC0C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00E9-B132-43E0-84CD-F499FBA23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22E8-2A56-4304-94B0-11488B87F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36C3-E92F-4480-9A9C-D645B4AB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B8E7-03C8-45F1-AFA5-19A9841D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F838-F2A7-47F7-96B2-311446E6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4582-8FDA-4AEE-AF3B-2CD6EB4F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7365-E228-47F2-B532-7BD9BBA2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E648-6634-4945-8083-169330AF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5505-3593-4923-B19F-74BC9064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5649-EE88-4521-B885-CD3543DF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A816-632E-4351-AA34-4AE4654E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E279-3A59-4725-B54A-9518D5ED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C110-E3C4-43B4-BC71-2D127047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6D6B-AF44-44FD-A0B2-0378BAE1A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EAE3-2F5E-4047-AEF0-820F6FBF6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DF133-FFB9-4D5D-8E7C-69EFC78E6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129BE-504B-4E06-A4B0-C2063527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AF508-206F-46A2-BC29-58EE8BD2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D26CD-17F2-405F-81BC-9E9A9682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53B9F-CC46-4BB9-BA4E-007BE643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2DD8-DBE3-4B44-AC42-2E5F65D2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D7D56-E303-450E-96EA-B60109B5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B718B-8C3A-49DB-A86D-7EBA24B7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70B98-19FD-48B4-83D3-018DF7D4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567F8-AB2B-455E-877A-38346D13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D7B46-9219-487E-988D-506B0190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3FB99-C34D-464F-A371-03A399E1D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E386D-14C3-4113-B13A-92D982EA4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B1D10-ECF1-4392-9524-76F780F2B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2C4EF-A84B-4CFB-B37F-FF05E630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11C29-20A0-4ADD-A577-A1771168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10F1-C375-429C-9F46-95E6DB23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DEA9B-C07F-46B7-9C83-620AB291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5E1EA-0067-48F9-A2E8-946E5FF9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568B1-EB02-4381-B2C1-84AD6CFD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DE159-DFEC-4098-8B4B-2F8BF427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AB477-E582-42F1-836D-E12DDFCD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81CA4-CE21-41F3-AEA1-75DE5D37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664AB-7BA4-4A61-BFA3-9399C7EF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C3AC5-9208-4874-8B68-27B8A669F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C5562-BA8E-4EC8-8660-9A8DD9E87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2210-BD06-48C2-BAA2-2838996A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ACD0-03CC-4488-BE3A-607470AD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DA33-E33A-41FA-98C8-637C3524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CD4F-7521-4FDE-BD92-23F75C12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2D43-B8E5-46D3-AC91-C54EECA5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4A17-520A-4D14-B324-EFF9E855D90D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C3D2-5E23-461C-B438-504B30374EE5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DB5D-1D54-4AB2-9482-399AF69DAECF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92A6-7916-4F7E-A1F7-DE3A99937388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196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Бюджет </a:t>
            </a: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для граждан</a:t>
            </a: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 решению Собрания депутатов Крупецкого сельсовета Дмитриевского района Курской области от 19.12.2017г.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№ 187 «О бюджете муниципального образования «Крупецкой сельсовет» Дмитриевского района Курской области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 2018 год и на плановый период 2019 и 2020 годов»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17" descr="http://cs106.vk.me/v106555/5a/N6Hs0Brnc-g.jpg"/>
          <p:cNvPicPr/>
          <p:nvPr/>
        </p:nvPicPr>
        <p:blipFill>
          <a:blip r:embed="rId2"/>
          <a:stretch/>
        </p:blipFill>
        <p:spPr>
          <a:xfrm>
            <a:off x="566640" y="2419200"/>
            <a:ext cx="2652840" cy="1871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9" descr="https://img-fotki.yandex.ru/get/6201/55543982.e0/0_b9b7c_dc20353d_L"/>
          <p:cNvPicPr/>
          <p:nvPr/>
        </p:nvPicPr>
        <p:blipFill>
          <a:blip r:embed="rId3"/>
          <a:stretch/>
        </p:blipFill>
        <p:spPr>
          <a:xfrm>
            <a:off x="6224760" y="2206800"/>
            <a:ext cx="2151000" cy="16160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1" descr="http://cs403018.vk.me/v403018988/4228/4hyM1kjbv5M.jpg"/>
          <p:cNvPicPr/>
          <p:nvPr/>
        </p:nvPicPr>
        <p:blipFill>
          <a:blip r:embed="rId4"/>
          <a:stretch/>
        </p:blipFill>
        <p:spPr>
          <a:xfrm>
            <a:off x="3992400" y="328680"/>
            <a:ext cx="1092240" cy="1262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SAM_3608"/>
          <p:cNvPicPr/>
          <p:nvPr/>
        </p:nvPicPr>
        <p:blipFill>
          <a:blip r:embed="rId5"/>
          <a:stretch/>
        </p:blipFill>
        <p:spPr>
          <a:xfrm>
            <a:off x="6215040" y="2214720"/>
            <a:ext cx="2428920" cy="17143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209" name="Rectangle 17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6" descr="DSCF1639"/>
          <p:cNvPicPr/>
          <p:nvPr/>
        </p:nvPicPr>
        <p:blipFill>
          <a:blip r:embed="rId6"/>
          <a:stretch/>
        </p:blipFill>
        <p:spPr>
          <a:xfrm>
            <a:off x="3143160" y="214200"/>
            <a:ext cx="2857680" cy="207180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Заголовок 3" descr=""/>
          <p:cNvPicPr/>
          <p:nvPr/>
        </p:nvPicPr>
        <p:blipFill>
          <a:blip r:embed="rId1"/>
          <a:stretch/>
        </p:blipFill>
        <p:spPr>
          <a:xfrm>
            <a:off x="-79200" y="-6480"/>
            <a:ext cx="932004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Text Box 2"/>
          <p:cNvGrpSpPr/>
          <p:nvPr/>
        </p:nvGrpSpPr>
        <p:grpSpPr>
          <a:xfrm>
            <a:off x="0" y="-6480"/>
            <a:ext cx="9150480" cy="6162840"/>
            <a:chOff x="0" y="-6480"/>
            <a:chExt cx="9150480" cy="6162840"/>
          </a:xfrm>
        </p:grpSpPr>
        <p:pic>
          <p:nvPicPr>
            <p:cNvPr id="301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6480" y="-144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3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уктура расходов бюджета  муниципального образования «Крупецкой сельсовет» по разделам бюджетной классификации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755640" y="836640"/>
          <a:ext cx="7848720" cy="3936960"/>
        </p:xfrm>
        <a:graphic>
          <a:graphicData uri="http://schemas.openxmlformats.org/drawingml/2006/table">
            <a:tbl>
              <a:tblPr/>
              <a:tblGrid>
                <a:gridCol w="511200"/>
                <a:gridCol w="2376360"/>
                <a:gridCol w="1785960"/>
                <a:gridCol w="1643040"/>
                <a:gridCol w="153216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8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9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0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8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8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8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 вопр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, кинематограф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ая культура и спо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Text Box 2"/>
          <p:cNvGrpSpPr/>
          <p:nvPr/>
        </p:nvGrpSpPr>
        <p:grpSpPr>
          <a:xfrm>
            <a:off x="0" y="0"/>
            <a:ext cx="9144000" cy="6168960"/>
            <a:chOff x="0" y="0"/>
            <a:chExt cx="9144000" cy="6168960"/>
          </a:xfrm>
        </p:grpSpPr>
        <p:pic>
          <p:nvPicPr>
            <p:cNvPr id="312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6480" y="6480"/>
              <a:ext cx="913104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324000" y="549360"/>
          <a:ext cx="8351640" cy="4503600"/>
        </p:xfrm>
        <a:graphic>
          <a:graphicData uri="http://schemas.openxmlformats.org/drawingml/2006/table">
            <a:tbl>
              <a:tblPr/>
              <a:tblGrid>
                <a:gridCol w="3962160"/>
                <a:gridCol w="1500120"/>
                <a:gridCol w="1500480"/>
                <a:gridCol w="1388880"/>
              </a:tblGrid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азвитие культуры  в муниципальном образовании «Крупецкой сельсовет» на 2018-2020 го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оциальная поддержка  граждан  Крупецкого сельсовета на 2018-2020 го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беспечение доступным и комфортным жильём и коммунальными услугами  граждан в муниципальном образовании «Крупецкой сельсовет» на 2018-2020 го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овышение эффективности работы с молодежью, организация отдыха и оздоровления детей, молодежи, развитие физической культуры и спорта в муниципальном образовании «Крупецкой сельсовет» на 2018-2020 го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Развитие муниципальной службы в Крупецком сельсовете на 2018-2020 го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Text Box 2"/>
          <p:cNvGrpSpPr/>
          <p:nvPr/>
        </p:nvGrpSpPr>
        <p:grpSpPr>
          <a:xfrm>
            <a:off x="6480" y="-6480"/>
            <a:ext cx="9144000" cy="6169320"/>
            <a:chOff x="6480" y="-6480"/>
            <a:chExt cx="9144000" cy="6169320"/>
          </a:xfrm>
        </p:grpSpPr>
        <p:pic>
          <p:nvPicPr>
            <p:cNvPr id="322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-6480"/>
              <a:ext cx="914400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12600" y="0"/>
              <a:ext cx="913140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85840" y="417600"/>
          <a:ext cx="8318520" cy="2225520"/>
        </p:xfrm>
        <a:graphic>
          <a:graphicData uri="http://schemas.openxmlformats.org/drawingml/2006/table">
            <a:tbl>
              <a:tblPr/>
              <a:tblGrid>
                <a:gridCol w="3429000"/>
                <a:gridCol w="1928880"/>
                <a:gridCol w="1571400"/>
                <a:gridCol w="1389240"/>
              </a:tblGrid>
              <a:tr h="73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офилактика правонарушений в Крупецком сельсовете на 2018-2020 го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Защита населения и территории от чрезвычайных ситуаций, обеспечение пожарной безопасности и безопасности людей на водных объектах на 2018-2020 го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Заголовок 1" descr=""/>
          <p:cNvPicPr/>
          <p:nvPr/>
        </p:nvPicPr>
        <p:blipFill>
          <a:blip r:embed="rId1"/>
          <a:stretch/>
        </p:blipFill>
        <p:spPr>
          <a:xfrm>
            <a:off x="706320" y="268200"/>
            <a:ext cx="8236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43040" y="1714680"/>
            <a:ext cx="6500880" cy="36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Спасибо, что посетили информационный ресурс «Бюджет для граждан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341280" y="1311120"/>
            <a:ext cx="7967520" cy="1413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51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Территория 66,48 кв.км.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Население: общая численность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2434 человек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Население трудоспособного возраста: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1280 человек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Дети до 18 лет: 354 человек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Численность  пенсионеров: 768 человека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2"/>
          <a:srcRect l="5893" t="0" r="5893" b="0"/>
          <a:stretch/>
        </p:blipFill>
        <p:spPr>
          <a:xfrm>
            <a:off x="5857920" y="2000160"/>
            <a:ext cx="285732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15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то такое бюджет для граждан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TextBox 1"/>
          <p:cNvSpPr/>
          <p:nvPr/>
        </p:nvSpPr>
        <p:spPr>
          <a:xfrm>
            <a:off x="468360" y="1268280"/>
            <a:ext cx="806436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Бюджет для граждан – это упрощенная версия бюджетного документа, которая использует неформальный язык и доступные документы,  чтобы облегчить для граждан понимание бюджета. Он содержит информационно-аналитический материал, доступный для широкого круга подготовленных пользовател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юджет муниципального образования «Крупецкой сельсовет» на 2018-2020 годы утверждён на три года, в соответствии с действующим законодательством. Проект бюджета рассматривается и обсуждается на публичных слушаниях среди населения. Подлежит опубликованию в газете «Дмитриевский вестник» и на сайте Администрации Крупецкого сельсовета. В течении года  производится уточнение бюджета муниципального образования «Крупецкой сельсовет»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Рисунок 21" descr="B:\мои док\разное\фото\IMG_1666.JPG"/>
          <p:cNvPicPr/>
          <p:nvPr/>
        </p:nvPicPr>
        <p:blipFill>
          <a:blip r:embed="rId2"/>
          <a:stretch/>
        </p:blipFill>
        <p:spPr>
          <a:xfrm>
            <a:off x="822240" y="2633760"/>
            <a:ext cx="3213360" cy="1809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5" descr="PA180053"/>
          <p:cNvPicPr/>
          <p:nvPr/>
        </p:nvPicPr>
        <p:blipFill>
          <a:blip r:embed="rId3"/>
          <a:stretch/>
        </p:blipFill>
        <p:spPr>
          <a:xfrm>
            <a:off x="928800" y="2500200"/>
            <a:ext cx="3857400" cy="19288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227" name="Рисунок 15" descr="DSC01350.JPG"/>
          <p:cNvPicPr/>
          <p:nvPr/>
        </p:nvPicPr>
        <p:blipFill>
          <a:blip r:embed="rId4"/>
          <a:stretch/>
        </p:blipFill>
        <p:spPr>
          <a:xfrm>
            <a:off x="5357880" y="2500200"/>
            <a:ext cx="3143160" cy="20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29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1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040" y="404280"/>
            <a:ext cx="737244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Что такое бюджет</a:t>
            </a: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юджет –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39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1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Бюджет муниципального образования «Крупецкой сельсовет» составлен и утвержден сроком на три года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8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1042920" y="2084400"/>
            <a:ext cx="7491600" cy="68256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ая соединительная линия 5"/>
          <p:cNvSpPr/>
          <p:nvPr/>
        </p:nvSpPr>
        <p:spPr>
          <a:xfrm>
            <a:off x="4572000" y="2637000"/>
            <a:ext cx="0" cy="64764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ая соединительная линия 7"/>
          <p:cNvSpPr/>
          <p:nvPr/>
        </p:nvSpPr>
        <p:spPr>
          <a:xfrm>
            <a:off x="1332000" y="3284640"/>
            <a:ext cx="6480000" cy="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1" name="Прямая со стрелкой 10"/>
          <p:cNvCxnSpPr/>
          <p:nvPr/>
        </p:nvCxnSpPr>
        <p:spPr>
          <a:xfrm>
            <a:off x="13442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52" name="Прямая со стрелкой 12"/>
          <p:cNvCxnSpPr/>
          <p:nvPr/>
        </p:nvCxnSpPr>
        <p:spPr>
          <a:xfrm>
            <a:off x="781164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253" name="Скругленный прямоугольник 13"/>
          <p:cNvSpPr/>
          <p:nvPr/>
        </p:nvSpPr>
        <p:spPr>
          <a:xfrm>
            <a:off x="444600" y="3867120"/>
            <a:ext cx="1800000" cy="187164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60">
                <a:moveTo>
                  <a:pt x="3600" y="0"/>
                </a:moveTo>
                <a:arcTo wR="3600" hR="3600" stAng="16200000" swAng="-5400000"/>
                <a:lnTo>
                  <a:pt x="0" y="18860"/>
                </a:lnTo>
                <a:arcTo wR="3600" hR="3600" stAng="10800000" swAng="-5400000"/>
                <a:lnTo>
                  <a:pt x="18000" y="224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Бюджетном послании Президен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Российск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Федер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Скругленный прямоугольник 23"/>
          <p:cNvSpPr/>
          <p:nvPr/>
        </p:nvSpPr>
        <p:spPr>
          <a:xfrm>
            <a:off x="2664000" y="3876840"/>
            <a:ext cx="1800000" cy="1873080"/>
          </a:xfrm>
          <a:custGeom>
            <a:avLst/>
            <a:gdLst>
              <a:gd name="textAreaLeft" fmla="*/ 93600 w 1800000"/>
              <a:gd name="textAreaRight" fmla="*/ 1706400 w 1800000"/>
              <a:gd name="textAreaTop" fmla="*/ 93600 h 1873080"/>
              <a:gd name="textAreaBottom" fmla="*/ 1779480 h 1873080"/>
            </a:gdLst>
            <a:ahLst/>
            <a:rect l="textAreaLeft" t="textAreaTop" r="textAreaRight" b="textAreaBottom"/>
            <a:pathLst>
              <a:path w="21600" h="22477">
                <a:moveTo>
                  <a:pt x="3842" y="0"/>
                </a:moveTo>
                <a:arcTo wR="3842" hR="3842" stAng="16200000" swAng="-5400000"/>
                <a:lnTo>
                  <a:pt x="0" y="18635"/>
                </a:lnTo>
                <a:arcTo wR="3842" hR="3842" stAng="10800000" swAng="-5400000"/>
                <a:lnTo>
                  <a:pt x="17758" y="22477"/>
                </a:lnTo>
                <a:arcTo wR="3842" hR="3842" stAng="5400000" swAng="-5400000"/>
                <a:lnTo>
                  <a:pt x="21600" y="3842"/>
                </a:lnTo>
                <a:arcTo wR="3842" hR="3842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рогноз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социально- экономического разви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рупец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Скругленный прямоугольник 24"/>
          <p:cNvSpPr/>
          <p:nvPr/>
        </p:nvSpPr>
        <p:spPr>
          <a:xfrm>
            <a:off x="475128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Основных направлениях бюджетной и налоговой политики Крупец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Скругленный прямоугольник 31"/>
          <p:cNvSpPr/>
          <p:nvPr/>
        </p:nvSpPr>
        <p:spPr>
          <a:xfrm>
            <a:off x="691200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Муниципальных программах Крупец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7" name="Прямая со стрелкой 32"/>
          <p:cNvCxnSpPr/>
          <p:nvPr/>
        </p:nvCxnSpPr>
        <p:spPr>
          <a:xfrm>
            <a:off x="35636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58" name="Прямая со стрелкой 33"/>
          <p:cNvCxnSpPr/>
          <p:nvPr/>
        </p:nvCxnSpPr>
        <p:spPr>
          <a:xfrm>
            <a:off x="565128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Text Box 2"/>
          <p:cNvGrpSpPr/>
          <p:nvPr/>
        </p:nvGrpSpPr>
        <p:grpSpPr>
          <a:xfrm>
            <a:off x="-6480" y="-6480"/>
            <a:ext cx="9150480" cy="6169320"/>
            <a:chOff x="-6480" y="-6480"/>
            <a:chExt cx="9150480" cy="6169320"/>
          </a:xfrm>
        </p:grpSpPr>
        <p:pic>
          <p:nvPicPr>
            <p:cNvPr id="260" name="Text Box 2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5480" y="1071360"/>
            <a:ext cx="8358120" cy="423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сновные характеристики бюджета</a:t>
            </a:r>
            <a:br>
              <a:rPr sz="3600"/>
            </a:br>
            <a:br>
              <a:rPr sz="36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оходы бюджета- поступающие в бюджет денежные средства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Расходы бюджета- выплачиваемые из бюджета денежные средства </a:t>
            </a:r>
            <a:br>
              <a:rPr sz="1400"/>
            </a:br>
            <a:br>
              <a:rPr sz="14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ХОДЫ-РАСХОДЫ=ДЕФИЦИТ (ПРОФИЦИТ)</a:t>
            </a:r>
            <a:br>
              <a:rPr sz="1800"/>
            </a:br>
            <a:br>
              <a:rPr sz="18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ефицит-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ревышение расходов над доходами (изыскиваются источники покрытия дефицита бюджета –использование остатков, сложившихся на начало финансового года, привлечение банковских и бюджетных кредитов)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официт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- превышение доходов над расходами  (принимается решение об использовании доходов – накапливать резервы, остатки, погашать долг)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Text Box 2"/>
          <p:cNvGrpSpPr/>
          <p:nvPr/>
        </p:nvGrpSpPr>
        <p:grpSpPr>
          <a:xfrm>
            <a:off x="0" y="-6480"/>
            <a:ext cx="9150480" cy="6169320"/>
            <a:chOff x="0" y="-6480"/>
            <a:chExt cx="9150480" cy="6169320"/>
          </a:xfrm>
        </p:grpSpPr>
        <p:pic>
          <p:nvPicPr>
            <p:cNvPr id="270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648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Основные характеристики бюджета муниципального образования «Крупецкой сельсовет» на 2018 год  и на плановый период 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2019 и 2020 годов 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95280" y="1341360"/>
          <a:ext cx="8280360" cy="4319640"/>
        </p:xfrm>
        <a:graphic>
          <a:graphicData uri="http://schemas.openxmlformats.org/drawingml/2006/table">
            <a:tbl>
              <a:tblPr/>
              <a:tblGrid>
                <a:gridCol w="2033640"/>
                <a:gridCol w="2357280"/>
                <a:gridCol w="2000520"/>
                <a:gridCol w="1888920"/>
              </a:tblGrid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8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9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0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8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8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8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8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8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8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(-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81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3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оходы бюджета муниципального образовани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«Крупецкой сельсовет»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Равнобедренный треугольник 2"/>
          <p:cNvSpPr/>
          <p:nvPr/>
        </p:nvSpPr>
        <p:spPr>
          <a:xfrm>
            <a:off x="3087720" y="836640"/>
            <a:ext cx="2879640" cy="23050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ЮДЖЕ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безвозмездные и безвозвратны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денежных средств в бюдже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Овал 13"/>
          <p:cNvSpPr/>
          <p:nvPr/>
        </p:nvSpPr>
        <p:spPr>
          <a:xfrm>
            <a:off x="279360" y="117324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от уплаты налогов, установленных Налоговым кодексо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Российской Федерации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пример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доходы физических лиц;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доходы от уплаты акцизов на нефтепродукты;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земельный нало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- други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2" name="Прямая со стрелкой 5"/>
          <p:cNvCxnSpPr>
            <a:stCxn id="291" idx="6"/>
            <a:endCxn id="290" idx="1"/>
          </p:cNvCxnSpPr>
          <p:nvPr/>
        </p:nvCxnSpPr>
        <p:spPr>
          <a:xfrm flipV="1">
            <a:off x="3087720" y="1988640"/>
            <a:ext cx="721440" cy="50400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93" name="Прямая со стрелкой 7"/>
          <p:cNvCxnSpPr>
            <a:stCxn id="294" idx="2"/>
            <a:endCxn id="290" idx="5"/>
          </p:cNvCxnSpPr>
          <p:nvPr/>
        </p:nvCxnSpPr>
        <p:spPr>
          <a:xfrm flipH="1" flipV="1">
            <a:off x="5248080" y="1988280"/>
            <a:ext cx="761040" cy="4057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95" name="Прямая со стрелкой 12"/>
          <p:cNvCxnSpPr>
            <a:endCxn id="290" idx="3"/>
          </p:cNvCxnSpPr>
          <p:nvPr/>
        </p:nvCxnSpPr>
        <p:spPr>
          <a:xfrm flipH="1" flipV="1">
            <a:off x="4527000" y="3141000"/>
            <a:ext cx="6840" cy="3229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296" name="TextBox 15"/>
          <p:cNvSpPr/>
          <p:nvPr/>
        </p:nvSpPr>
        <p:spPr>
          <a:xfrm>
            <a:off x="5003640" y="32796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Овал 26"/>
          <p:cNvSpPr/>
          <p:nvPr/>
        </p:nvSpPr>
        <p:spPr>
          <a:xfrm>
            <a:off x="6008760" y="107460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ЕЗВОЗМЕЗДНЫЕ ПОСТУПЛ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в бюджет на безвозмездной и безвозвратной основе из областного бюджета (субсидии, субвенции), бюджета муниципального района(дотации),а также перечисления от физических и юридических лиц (кроме налоговых и неналоговых доходов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Овал 31"/>
          <p:cNvSpPr/>
          <p:nvPr/>
        </p:nvSpPr>
        <p:spPr>
          <a:xfrm>
            <a:off x="3129120" y="3463920"/>
            <a:ext cx="280800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Е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ходы от использования муниципального  имущества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ругие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30240" y="-6480"/>
            <a:ext cx="904068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30</dc:creator>
  <dc:description/>
  <dc:language>en-US</dc:language>
  <cp:lastModifiedBy>Krypec</cp:lastModifiedBy>
  <dcterms:modified xsi:type="dcterms:W3CDTF">2017-12-18T07:28:41Z</dcterms:modified>
  <cp:revision>190</cp:revision>
  <dc:subject/>
  <dc:title>Презентация PowerPoint</dc:title>
</cp:coreProperties>
</file>