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2C4-E354-4DCC-AD04-D30D61FC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7F7-28E8-4BEA-9671-FB6D242C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8BF-3F20-46CF-A198-B197B0F2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5E2-87D6-4002-8494-50CE1A0B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39B8-C2C3-469A-8007-741F3F6E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6390-2B44-4C13-A283-9D8C1AFE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C47E-9103-44DE-A91B-7FD267B4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9899-1165-4472-A199-7E5833F0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AB5A-ED93-4840-826B-523D8149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1EC3-3F73-4A2C-BADC-79B088E6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76E4-5BBF-4B2B-AB9D-F7533649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E20-21C3-495D-BCA4-8190E198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DB62-ED01-4609-A91D-B27BC2E6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4781-2426-42FF-B1BE-8E0A4ED3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87D6-F4C4-446C-9148-14AA1A31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7CBD-CE9B-4A25-8D07-5B681FA4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80B8-F3A3-4BAC-80D8-E58754D9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158BE-A2C1-4623-A58C-1670237B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A1AD1-0A40-4D30-93C3-91441118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16E37-783E-4502-BA46-86FDF9D2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EB93C-5881-4737-BCDF-B3D5B69B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AED60-5B8B-4764-8C2C-E80720AD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4AD-501E-465B-B3FF-230CFFC1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F2A32-7AF2-4465-B10F-9B3DA621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6E4D6-A4DA-4848-9765-BFEAE31E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6C7A3-D10B-4B41-A5F8-1E83E08E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68D08-C01C-4B6D-935F-B186F14E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C0D5A-6A09-4672-973D-0619D84C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2640-6C20-47F7-BBE4-C282D2F0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74CC-32D6-4C40-9AAA-255B68AE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F9A00-F50A-40B8-B058-008E3993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03680-D40C-4550-8F3C-4B0771D6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2138F-7F60-46BA-911B-B75BE3BA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CB4-F446-49A6-9AC2-5AF05D29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EEA4E-4A3A-4B79-8783-371D5096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F8585-E12C-4C81-AB9E-1D02A766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BFD74-9C8F-4779-BAE3-C51A2713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33884-58E6-44D2-81EC-5C8FD31B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D23FA-642E-4C17-AC6C-4F9662F3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756D9-C9D2-42E2-A836-B87A11A2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312D2-998E-45EC-8BFF-2E1E2600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EEF20-4D90-422E-BAFF-6E3BEEFA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01D5B-62D7-4A08-A900-0EAD5869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889B7-136B-4B5A-BC72-F68F18E6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720-0D79-4D08-BC7D-6ADEF3BF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E807C-E334-4E49-B875-99E359AF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7513E-8244-421F-A324-F6463056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5099A-E911-460E-B967-A7264628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34B67-8471-4D18-8A72-E060F8AD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1C85E-1524-4836-93A4-5F98F08D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75934-1127-42FD-A9E6-526E0A99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BCED1-7830-4F23-9076-FEEAC9A6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83C6B-FEA2-440E-A797-4F73CCE2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D82C3-F5AA-4B1C-B6CF-D6969B4F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C3CCB-6C10-4812-97E0-34C21580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8F8-8E12-42ED-BBF1-22510D43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B8295-4430-4392-B483-3BEF0FDE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0CE51-7014-40E1-AC1A-FDD9736E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6F419-1B56-4313-8A08-B54DAA03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5181C-1E00-4983-A426-8BD5EF72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3C805-73C7-483B-B49E-1632B218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10E28-7115-4963-BCBB-2220A508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EBA7A-4DC3-4304-858D-A7266708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84928-2620-4EAA-9665-70D69D41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48F76-4A6D-4D2D-9A72-2378448B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286D6-CEF4-4AF3-B25B-2657E858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D449-16A7-469C-99CA-8C2243DB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5109C-3F03-4A0E-8884-3D963584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0FE3F-EB06-4427-BE1F-93BD2497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4FDB4-84CA-485F-AFA7-F8068943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87BD8-1E85-458F-B152-56C3EF21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E72DA-2E3A-4E3C-99E4-350FDA8B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359B1-FBD9-46CC-84B8-855B912B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03C3D-0A84-40B7-A649-728F0975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19C7F-A6F1-4980-A51C-11B14923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AF0EE-9B93-480E-BD25-8B4F5E62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3685A-9C84-4507-B7F7-7C0AB487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DCC3-BE2C-4372-BB92-9A9E80DC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5800D-C80B-4E3F-A346-8123343D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9372F-BD9E-4F32-AF0E-2CA9B826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E0CD8-169C-49AB-8121-4C12AECC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C59BF-447F-4F19-BAC6-C2772BA1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58400-8313-4E62-A5E8-1C5A92A1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133-B1E7-4A2A-ACBE-E7244402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ADAB-01CE-4177-A840-9770E3B516C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34DD-738D-49FF-99EB-05F4D1674F8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B8B3-93B3-4310-8E8C-705E328E4BB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6D5F-E368-4075-BD2B-FF8C4F2BA07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34C3-AB98-4518-B1AC-85436E0B0EE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9E1B-1CD7-4BE4-A16E-ADD9A79029B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A772-021E-4E14-9029-8AC4054C70A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WordArt 5" descr=""/>
          <p:cNvPicPr/>
          <p:nvPr/>
        </p:nvPicPr>
        <p:blipFill>
          <a:blip r:embed="rId1"/>
          <a:stretch/>
        </p:blipFill>
        <p:spPr>
          <a:xfrm>
            <a:off x="165240" y="109440"/>
            <a:ext cx="887544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5"/>
          <p:cNvSpPr/>
          <p:nvPr/>
        </p:nvSpPr>
        <p:spPr>
          <a:xfrm>
            <a:off x="928800" y="25560"/>
            <a:ext cx="794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поселения за 2017 год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3"/>
          <p:cNvSpPr/>
          <p:nvPr/>
        </p:nvSpPr>
        <p:spPr>
          <a:xfrm>
            <a:off x="928800" y="1989000"/>
            <a:ext cx="7819920" cy="237672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138,0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3"/>
          <p:cNvSpPr/>
          <p:nvPr/>
        </p:nvSpPr>
        <p:spPr>
          <a:xfrm>
            <a:off x="106200" y="115920"/>
            <a:ext cx="90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муниципального образования «Крупецкой сельсовет» Дмитриев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Курской области за 2017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4"/>
          <p:cNvSpPr/>
          <p:nvPr/>
        </p:nvSpPr>
        <p:spPr>
          <a:xfrm>
            <a:off x="1143000" y="1413000"/>
            <a:ext cx="7643880" cy="42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шение Собрания депутатов Крупецкого сельсовет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137 от 19 декабря 2016 года «О бюджете  муниципального образования «Крупецкой сельсовет» Дмитриевского района Курской области  на 2017 год и на плановый период 2018 и 2019 годов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Собрания депутатов Крупецкого сельсовета от 01.12.2017 № 187 «О внесении изменений в решение Собрания депутатов Крупецкого сельсовета  № 137 от 19 декабря 2016 года «О бюджете  муниципального образования «Крупецкой сельсовет» Дмитриевского района Курской области  на 2017 год и на плановый период 2018 и 2019 год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179280" y="44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Крупецкого сель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митриевского района Курской области за 2017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071800" y="1000080"/>
          <a:ext cx="6072120" cy="2857680"/>
        </p:xfrm>
        <a:graphic>
          <a:graphicData uri="http://schemas.openxmlformats.org/drawingml/2006/table">
            <a:tbl>
              <a:tblPr/>
              <a:tblGrid>
                <a:gridCol w="3035160"/>
                <a:gridCol w="3036960"/>
              </a:tblGrid>
              <a:tr h="6670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6667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80,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6,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6,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доходам за 2017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042920" y="798480"/>
          <a:ext cx="7607520" cy="6026040"/>
        </p:xfrm>
        <a:graphic>
          <a:graphicData uri="http://schemas.openxmlformats.org/drawingml/2006/table">
            <a:tbl>
              <a:tblPr/>
              <a:tblGrid>
                <a:gridCol w="5189760"/>
                <a:gridCol w="1266840"/>
                <a:gridCol w="1150920"/>
              </a:tblGrid>
              <a:tr h="627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очненный план на 2017г.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2017 год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5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0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6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7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7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1564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3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3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4352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 использования имущества, находящегося в государственной и 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3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3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80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58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01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99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553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540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 бюджетам бюджетной системы Российской федерации (межбюджетные  трансфер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8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8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3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3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38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36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врат остатков субсидий, субвенций и иных межбюджетных трансфер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50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48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Прямоугольник 3"/>
          <p:cNvGrpSpPr/>
          <p:nvPr/>
        </p:nvGrpSpPr>
        <p:grpSpPr>
          <a:xfrm>
            <a:off x="-128520" y="23760"/>
            <a:ext cx="9405720" cy="933480"/>
            <a:chOff x="-128520" y="23760"/>
            <a:chExt cx="9405720" cy="933480"/>
          </a:xfrm>
        </p:grpSpPr>
        <p:pic>
          <p:nvPicPr>
            <p:cNvPr id="326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8520" y="23760"/>
              <a:ext cx="94057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направления по доходам за  2017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8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68196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4627440" y="4950000"/>
            <a:ext cx="4939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расходам за  2017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85840" y="857160"/>
          <a:ext cx="8267760" cy="581040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9080"/>
                <a:gridCol w="936360"/>
                <a:gridCol w="93528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7г.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7 год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50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405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населения и территории от последствий чрезвычайных ситуаций природного и техногенного характера, гражданск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404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первичных мер пожарной безопасности в границах населенных пунктов муниципальных образ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405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214200" y="214200"/>
          <a:ext cx="8245440" cy="502452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</a:tblGrid>
              <a:tr h="109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6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6 год, 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1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ad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4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ое 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8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3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5"/>
          <p:cNvSpPr/>
          <p:nvPr/>
        </p:nvSpPr>
        <p:spPr>
          <a:xfrm>
            <a:off x="1071720" y="12600"/>
            <a:ext cx="77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 2017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Диаграмма 3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7724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5"/>
          <p:cNvSpPr/>
          <p:nvPr/>
        </p:nvSpPr>
        <p:spPr>
          <a:xfrm>
            <a:off x="1071720" y="25560"/>
            <a:ext cx="77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 2017 года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Овал 3"/>
          <p:cNvSpPr/>
          <p:nvPr/>
        </p:nvSpPr>
        <p:spPr>
          <a:xfrm>
            <a:off x="1714680" y="1197000"/>
            <a:ext cx="6002280" cy="131436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щегосударстве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1508,7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Блок-схема: альтернативный процесс 4"/>
          <p:cNvSpPr/>
          <p:nvPr/>
        </p:nvSpPr>
        <p:spPr>
          <a:xfrm>
            <a:off x="857160" y="2538360"/>
            <a:ext cx="3000600" cy="154296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высшего должностного лица субъекта Российской Федерации 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66,1 тыс. 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Блок-схема: альтернативный процесс 7"/>
          <p:cNvSpPr/>
          <p:nvPr/>
        </p:nvSpPr>
        <p:spPr>
          <a:xfrm>
            <a:off x="5435640" y="2492280"/>
            <a:ext cx="3065400" cy="220212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942,6 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Блок-схема: процесс 5"/>
          <p:cNvSpPr/>
          <p:nvPr/>
        </p:nvSpPr>
        <p:spPr>
          <a:xfrm>
            <a:off x="1357200" y="4508640"/>
            <a:ext cx="2143080" cy="9698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Глава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(566,1 тыс. руб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Прямая со стрелкой 6"/>
          <p:cNvCxnSpPr>
            <a:stCxn id="336" idx="3"/>
            <a:endCxn id="337" idx="0"/>
          </p:cNvCxnSpPr>
          <p:nvPr/>
        </p:nvCxnSpPr>
        <p:spPr>
          <a:xfrm flipH="1">
            <a:off x="2356560" y="2319480"/>
            <a:ext cx="23724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1" name="Прямая со стрелкой 14"/>
          <p:cNvCxnSpPr>
            <a:stCxn id="336" idx="4"/>
            <a:endCxn id="338" idx="0"/>
          </p:cNvCxnSpPr>
          <p:nvPr/>
        </p:nvCxnSpPr>
        <p:spPr>
          <a:xfrm flipV="1">
            <a:off x="4716360" y="2491560"/>
            <a:ext cx="2253600" cy="1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2" name="Прямая со стрелкой 33"/>
          <p:cNvCxnSpPr/>
          <p:nvPr/>
        </p:nvCxnSpPr>
        <p:spPr>
          <a:xfrm>
            <a:off x="324000" y="4941360"/>
            <a:ext cx="194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3" name="Прямая соединительная линия 35"/>
          <p:cNvSpPr/>
          <p:nvPr/>
        </p:nvSpPr>
        <p:spPr>
          <a:xfrm>
            <a:off x="324000" y="4149720"/>
            <a:ext cx="0" cy="792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Krypec</cp:lastModifiedBy>
  <dcterms:modified xsi:type="dcterms:W3CDTF">2018-04-18T08:44:41Z</dcterms:modified>
  <cp:revision>36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