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9436-A121-4941-A186-924E50E5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5EC-7EA0-457E-BE82-5D7C7E97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F36-DADD-4E0B-83B9-91421147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BCF5-F222-4FD4-A85A-93C276D0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50B5-82DC-4782-8746-691AE8D3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3726-193C-4149-A97A-F09920C4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0353-D25A-45DC-9494-2FA8B145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FACF-9320-468F-AD2C-051C57E8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BA9F-C9C4-4058-812E-115C0A78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C3D5-0CD8-4995-B837-02EE8D94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F448-93D5-4931-899F-4D844790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C7FA-5373-4D13-8AF2-32508636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01F9-BA38-4533-89CD-04091999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98F9-7273-4D31-BEC9-D1CB2FDD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6654-2A2F-48D6-85C7-2A26FA03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FC2A-2668-447E-8EDE-21C5AF4B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A10A-4367-404D-AE1D-A0C679BD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078F0-B3EC-4B5F-9455-D1268DDD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9920A-767E-422E-B3AB-783E68BD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D0F6B-717E-458B-A813-D928C860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E5721-A145-46EB-9053-D81E98FC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335EB-C581-4802-845A-E9ABB826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9274-6447-43DD-A7F5-60AD9FB4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A2021-6151-409B-A166-A5E4DE8F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C1E65-F9F6-404B-A8A3-2691FFEF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20AE0-5419-4509-9984-EFD29063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1C5F8-CB0A-4B15-977F-2BE0E955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BEF18-F219-42E9-B93F-8425D5FC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E42E1-CDCA-42F9-BC60-D93EE057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8EA31-38B9-4B0E-9ECC-9200FDC6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24232-AF4A-4F25-8064-3EF3C67E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FB8A5-30BC-4E87-9ADF-CAB1CDCA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B025E-A356-4BA8-87D8-826DBFCE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AEC-1BE9-4B51-A9FF-ADB3D873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9E944-3CE5-43B7-8C5F-91CF433E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6FE7F-CAFE-4FF0-8600-1F90FA83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FDB07-B129-4970-82B9-064237AE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53412-71E5-44FE-A3C2-A38A3A08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E89BF-19FD-4125-8D59-75007FB1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F4105-6B29-44C9-B71B-485EB8F3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C62A9-0A37-4BC5-BD33-EE2B6B52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A3935-2CF0-4C46-9519-CA6DC4C9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3648D-7671-4293-BB0E-37E0B036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C90-515E-4C78-9F45-8DB6289D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FE02-6BE6-482A-9313-4D8DB10A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5EAE-C1CA-43AD-BE94-092D557B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FC92-A859-4735-A97C-227ADA11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053E-349A-4B7F-888D-2EC85146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54AE-97A3-46F1-B508-53FE67DD96A5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53FD-2D0E-479C-B139-CAF77A8F9BB7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6D51-9323-4674-A0B4-AB6D7AD4CCC7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44DB-1B89-44E9-8B1A-DDD3FDD9C53E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Бюджет 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для граждан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 проекту решения Собрания депутатов Крупецкого сельсовета Дмитриевского района Курской области от _____2018г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№ ____ «О бюджете муниципального образования «Крупецкой сельсовет» Дмитриевского района Курской област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 2019 год и на плановый период 2020 и 2021 годов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17" descr="http://cs106.vk.me/v106555/5a/N6Hs0Brnc-g.jpg"/>
          <p:cNvPicPr/>
          <p:nvPr/>
        </p:nvPicPr>
        <p:blipFill>
          <a:blip r:embed="rId2"/>
          <a:stretch/>
        </p:blipFill>
        <p:spPr>
          <a:xfrm>
            <a:off x="566640" y="2419200"/>
            <a:ext cx="2652840" cy="1871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https://img-fotki.yandex.ru/get/6201/55543982.e0/0_b9b7c_dc20353d_L"/>
          <p:cNvPicPr/>
          <p:nvPr/>
        </p:nvPicPr>
        <p:blipFill>
          <a:blip r:embed="rId3"/>
          <a:stretch/>
        </p:blipFill>
        <p:spPr>
          <a:xfrm>
            <a:off x="6224760" y="2206800"/>
            <a:ext cx="2151000" cy="1616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http://cs403018.vk.me/v403018988/4228/4hyM1kjbv5M.jpg"/>
          <p:cNvPicPr/>
          <p:nvPr/>
        </p:nvPicPr>
        <p:blipFill>
          <a:blip r:embed="rId4"/>
          <a:stretch/>
        </p:blipFill>
        <p:spPr>
          <a:xfrm>
            <a:off x="3992400" y="328680"/>
            <a:ext cx="1092240" cy="126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SAM_3608"/>
          <p:cNvPicPr/>
          <p:nvPr/>
        </p:nvPicPr>
        <p:blipFill>
          <a:blip r:embed="rId5"/>
          <a:stretch/>
        </p:blipFill>
        <p:spPr>
          <a:xfrm>
            <a:off x="6215040" y="2214720"/>
            <a:ext cx="2428920" cy="1714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9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6" descr="DSCF1639"/>
          <p:cNvPicPr/>
          <p:nvPr/>
        </p:nvPicPr>
        <p:blipFill>
          <a:blip r:embed="rId6"/>
          <a:stretch/>
        </p:blipFill>
        <p:spPr>
          <a:xfrm>
            <a:off x="3143160" y="214200"/>
            <a:ext cx="2857680" cy="20718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3" descr=""/>
          <p:cNvPicPr/>
          <p:nvPr/>
        </p:nvPicPr>
        <p:blipFill>
          <a:blip r:embed="rId1"/>
          <a:stretch/>
        </p:blipFill>
        <p:spPr>
          <a:xfrm>
            <a:off x="-92160" y="-865080"/>
            <a:ext cx="9345600" cy="78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0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расходов бюджета  муниципального образования «Крупецкой сельсовет» по разделам бюджетной 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755640" y="836640"/>
          <a:ext cx="7848720" cy="3936960"/>
        </p:xfrm>
        <a:graphic>
          <a:graphicData uri="http://schemas.openxmlformats.org/drawingml/2006/table">
            <a:tbl>
              <a:tblPr/>
              <a:tblGrid>
                <a:gridCol w="511200"/>
                <a:gridCol w="2376360"/>
                <a:gridCol w="1785960"/>
                <a:gridCol w="1643040"/>
                <a:gridCol w="153216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3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24000" y="549360"/>
          <a:ext cx="8351640" cy="4503600"/>
        </p:xfrm>
        <a:graphic>
          <a:graphicData uri="http://schemas.openxmlformats.org/drawingml/2006/table">
            <a:tbl>
              <a:tblPr/>
              <a:tblGrid>
                <a:gridCol w="3962160"/>
                <a:gridCol w="1500120"/>
                <a:gridCol w="1500480"/>
                <a:gridCol w="13888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Крупецкой сельсовет» на 2019-2021 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Крупецкого сельсовета на 2019-2021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 граждан в муниципальном образовании «Крупецкой сельсовет» на 2019-2021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Крупецкой сельсовет» на 2019-2021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Крупецком сельсовете на 2019-2021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2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5840" y="417600"/>
          <a:ext cx="8318520" cy="2224080"/>
        </p:xfrm>
        <a:graphic>
          <a:graphicData uri="http://schemas.openxmlformats.org/drawingml/2006/table">
            <a:tbl>
              <a:tblPr/>
              <a:tblGrid>
                <a:gridCol w="3429000"/>
                <a:gridCol w="1928880"/>
                <a:gridCol w="1571400"/>
                <a:gridCol w="138924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Крупецком сельсовете на 2019-2021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19-2021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706320" y="268200"/>
            <a:ext cx="8236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43040" y="1714680"/>
            <a:ext cx="6500880" cy="36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Спасибо, что посетили информационный ресурс «Бюджет для граждан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341280" y="1311120"/>
            <a:ext cx="7967520" cy="1413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1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Территория 66,48 кв.км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: общая численнос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2370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 трудоспособного возраста: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1280 человек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Дети до 18 лет: 354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Численность  пенсионеров: 768 человек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rcRect l="5893" t="0" r="5893" b="0"/>
          <a:stretch/>
        </p:blipFill>
        <p:spPr>
          <a:xfrm>
            <a:off x="5857920" y="2000160"/>
            <a:ext cx="28573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468360" y="1268280"/>
            <a:ext cx="80643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ект бюджета муниципального образования «Крупецкой сельсовет» на 2019-2021 годы формируется на три года,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Крупецкого сельсовета. В течении года  производится уточнение бюджета муниципального образования «Крупецкой сельсовет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822240" y="2633760"/>
            <a:ext cx="3213360" cy="1809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PA180053"/>
          <p:cNvPicPr/>
          <p:nvPr/>
        </p:nvPicPr>
        <p:blipFill>
          <a:blip r:embed="rId3"/>
          <a:stretch/>
        </p:blipFill>
        <p:spPr>
          <a:xfrm>
            <a:off x="928800" y="2500200"/>
            <a:ext cx="3857400" cy="19288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27" name="Рисунок 15" descr="DSC01350.JPG"/>
          <p:cNvPicPr/>
          <p:nvPr/>
        </p:nvPicPr>
        <p:blipFill>
          <a:blip r:embed="rId4"/>
          <a:stretch/>
        </p:blipFill>
        <p:spPr>
          <a:xfrm>
            <a:off x="5357880" y="2500200"/>
            <a:ext cx="3143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юджет –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юджет муниципального образования «Крупецкой сельсовет» составлен и утвержден сроком на три год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53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ных программах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60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8358120" cy="423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7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сновные характеристики проекта бюджета муниципального образования «Крупецкой сельсовет» на 2019 год  и на плановый период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2020 и 2021 годов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2033640"/>
                <a:gridCol w="2357280"/>
                <a:gridCol w="2000520"/>
                <a:gridCol w="188892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3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3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8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Крупецко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безвозмездные и безвозврат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денежных средств в 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Прямая со стрелкой 5"/>
          <p:cNvCxnSpPr>
            <a:stCxn id="291" idx="6"/>
            <a:endCxn id="290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3" name="Прямая со стрелкой 7"/>
          <p:cNvCxnSpPr>
            <a:stCxn id="294" idx="2"/>
            <a:endCxn id="290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5" name="Прямая со стрелкой 12"/>
          <p:cNvCxnSpPr>
            <a:endCxn id="290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96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на безвозмездной и безвозвратной основе из областного бюджета (субсидии, субвенции), бюджета муниципального района(дотации),а также перечисления от физических и юридических лиц (кроме налоговых и неналоговых доход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ругие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30240" y="-6480"/>
            <a:ext cx="904068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Крупец</cp:lastModifiedBy>
  <dcterms:modified xsi:type="dcterms:W3CDTF">2018-11-16T12:49:34Z</dcterms:modified>
  <cp:revision>192</cp:revision>
  <dc:subject/>
  <dc:title>Презентация PowerPoint</dc:title>
</cp:coreProperties>
</file>