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AB2-3C9F-4D3C-BFFF-642FA2DF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E4B-24CB-45D7-BA74-4CC21608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420-48B6-46A6-9E08-69A1FA8C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217-CB03-4B1C-A787-95594D36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0982-D8B6-4CBF-BF25-3E0BBCD8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1DDA-6D43-4C28-B406-E917E85B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C683-BC94-4CB2-B5BA-173E59D6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3802-F2EB-4892-B8F9-08966A60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CCE5-57AE-4B2B-9DA3-5F7F3DC1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9AE0-F373-4CB6-A39A-056B8405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5D68-8336-4A04-B670-03C34B7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CEB-8E63-4D36-99E5-34375398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9F29-44AF-498F-BA4F-2826CD6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9AFC-D615-44C9-A6FE-EA12018E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DC96-CD30-4017-AB93-7B123527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3D02-5161-437F-9923-DB98AA6B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978F-6300-4FDE-B9C8-3C4F2CF7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81A4-AFAA-42F7-83CA-9C98DAFE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1CA9-58B9-442F-96C8-F4EF37B5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2E2C-2177-4B98-94E3-01231D2F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0092-2BA9-4979-8E96-78FF8E9C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869A-A27E-4D57-81B9-17258285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615-C4E3-4454-BB5A-61F4401D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5B95-E494-478B-A751-C5D4B0DD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E8BC-1E89-4C18-974A-25C4D949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0E92-DF42-44A9-AD57-81C030FD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2E5C-8659-46E1-836E-6801C571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F854-1BB6-4D40-A15F-C380F9F5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DC18-D0CD-4A78-AFD9-8BFEB7DF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7AA4-78B9-4C24-977A-3C07A21B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59273-B21A-46D9-8576-B2BAEE27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C14FE-9708-471B-B4F4-91338281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85F2-6E92-4B01-B370-B6827C8A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959-62F8-444F-8B00-7FBE9C81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070DA-E7EE-4099-A86C-E26675E8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C972B-6B88-4768-8397-A2479204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CBBC-403D-46CD-B530-75FF0EA7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C3DE8-405A-4CD0-BBB7-82F826A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1325-B974-4DEE-B830-CF57F24D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52F1-872A-4823-96C0-3273191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A5691-9BB7-4B6D-8F5B-9AEEF17A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60D8-1F15-4CEA-8648-F220A803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D8D5-0699-47C7-8064-E2BD562F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F11-953D-4CE6-B6E5-D70EE5EE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459-6F3B-41E0-8489-5374425E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7B8-363F-407E-B4CD-4CD62109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2A1-E4B3-4FBB-A65A-12E9A9C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001-25ED-4284-962A-0DEFE20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71D8-598B-43A8-A317-9E080636CCE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B244-BEDB-44B5-AFD3-ADD0C43E57D0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1EFE-B4F1-423C-9B3E-737821E44F8B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995B-1D29-48D1-AF3C-236E763FD58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решению Собрания депутатов Крупецкого сельсовета Дмитриевского района Курской области от 17.12.2018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25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19 год и на плановый период 2020 и 2021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92160" y="-865080"/>
            <a:ext cx="9345600" cy="78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50360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19-2021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36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370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Крупецкой сельсовет» на 2019-2021 годы утвержден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Крупецкой сельсовет» на 2019 год  и на плановый период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2020 и 2021 годов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406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18-12-18T13:28:32Z</dcterms:modified>
  <cp:revision>194</cp:revision>
  <dc:subject/>
  <dc:title>Презентация PowerPoint</dc:title>
</cp:coreProperties>
</file>