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E61-126D-457C-955C-06F857B8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14E-1820-4B2D-9E8B-7F4B7EA2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792-88C0-4D0D-97E6-3348C6E5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58E-B922-459D-9650-DC9EA9C9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A55-9A15-487C-BD7E-343A8564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B727-9A5D-4F30-93CE-F8767DDE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3EA6-7999-4EC0-A116-69BBE0C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70C7-E2A4-4878-9349-AFD55E2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E6DC-25A3-477B-8C9D-3706116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5048-3327-46BB-9451-12BB5333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95FE-FA69-416E-BB83-97531C2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920-8BBC-47E7-ABE3-EC666E7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C325-1367-4A2B-8CC5-E05283B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C3ED-D5DE-4D2C-BEA7-27DF530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78F-6146-48C0-9221-567E107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7F7A-1CDC-4A55-8347-BC0876AF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AF77-5E10-428B-99B4-31C7B1D1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AF40-4ECE-4306-8A7D-037B9A2E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75D7-ECC4-440D-BE9E-55C623B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720F-21C8-4FE7-8E07-8E3CEA81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E3A5-34BF-45D8-BE35-35135066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B1BB-5635-4045-AC9D-682E9F0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AF6-8CA0-41D1-9943-7017280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85F2-D1F4-4B35-A4D0-E45A2972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73BF-FA36-4262-A585-31F6411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8771-A106-41BD-B3C2-A056F08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EAF6-E90A-4747-BF30-57EFBA4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A08F-26F8-4AA2-A5C3-AA83AEC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7F19-688E-4149-BCEE-DADB55C0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7172-6E23-452F-BC10-6A34897B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9E67-1504-461A-AC8A-D447C95E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8DC3-E5D1-4CA6-BE9B-9210D14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B5E5-6A1A-46C5-92FD-E648F607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8A5-F1F4-4D2E-B8F2-FCBB5AE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EB96-334B-4E8D-930A-9C26F096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B6DB-D2F0-4EC0-9EC6-F7A07D72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F478-DE4D-465A-BB18-F3C03FA2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0770-DCCE-40C0-8ECE-F4C2CE2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B68F-FC83-4244-8759-95A95BB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6DD4-7D3B-44FE-A79E-12F8F32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1F74-B115-48F9-83DB-DC52803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D9C0-DF2A-4E36-81F3-6789D20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EBE2-E097-4D32-8DF7-AA37A5E1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92E3-704C-4E50-B61D-89DDFEB6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52C-03A4-4AB9-9655-A258E06F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3C7A-3F68-4F57-A6B9-F06FFF9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3713-96DF-4EE7-BF26-D7787E8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F0A5-5073-410E-8A1A-F2C34DF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A394-F772-4860-B1A7-B7CA0B68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1245-C6CC-4708-913D-38C0D39B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2C24-D689-4F43-BF6B-89B8F38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9613A-5BCB-4AC9-939D-6B5AE13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1FBF-5274-492D-913A-BD9E0C2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8BE9-3B1C-45DF-9188-FE3BB0F3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697E-009D-4A13-B9F9-5FE94D2C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7C5-D5D8-4520-8735-D25FF388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2584-E12F-4D80-BD47-FB40C1E4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712E-584A-4957-9229-0E94C9F7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8D3B6-80ED-4A5E-A9AB-4BE763C4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0C81-C6A3-41E9-B330-D463CB63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5B9F-60EE-45FA-9C0F-C93FA10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F4CA-FFAF-476F-B004-C01DC85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7B16-91B9-49FA-BE6C-194625C9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C1C0-BD2B-4236-9A3D-B57B1CA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7565-F2FD-4FFB-98AE-0BCA25B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6FAD-B96E-46A5-9A13-B84CC20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86F-F2EC-4489-ABDA-CD27FF3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4217-41E8-43B9-8581-43E12A9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BE40-12A6-44F6-A365-F696F247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152F-6AD9-44C0-B417-47886C83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E071-F772-491F-AC1E-C9C5EEE1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6F875-D031-40FA-AF87-90E790F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3F47-ACD4-4FE0-A6AE-6B6922B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C3B4-3712-441B-992A-B1B9F458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30BF-55E4-4109-A16B-81C817F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4ABB-978D-499E-BCD2-D19D570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3B11-41A1-458F-807B-4F0CE00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A6F-07EE-4A74-BC39-6D7C65A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63C8-126B-4F88-A641-B0309C8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3474-CD09-490B-9574-CE91308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4BA5-6F2D-489F-9A28-5167D59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EA6D-05E8-4ADD-B5B2-F3F83E6B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9ED7-887B-4B60-806A-3D71BF4D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BFF-E6BA-4992-9BA3-7EC1D4D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37B5-7434-41DB-A56D-B7F330C3E39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6F6-8F5D-4DCE-9621-0245C05B19E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F9E-A755-4464-ADA6-BACC0CB33BD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D35-E067-473B-82FF-7CE9AC4EA69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9BB-8709-471F-B873-6626F14F526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145-0C7C-40A7-987C-F8815003DAD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4FF5-E93E-46BA-92A6-7885EE191D6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8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157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Крупецкого сельсо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87 от 19 декабря 2017 года «О бюджете  муниципального образования «Крупецкой сельсовет» Дмитриевского района Курской области  на 2018 год и на плановый период 2019 и 2020 го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брания депутатов Крупецкого сельсовета от 17.12.2018 года № 30 «О внесении изменений в решение Собрания депутатов Крупецкого сельсовета  № 187 от 19 декабря 2017 года «О бюджете муниципального образования «Крупецкой сельсовет» Дмитриевского района Курской области  на 2018 год и на плановый период 2019 и 2020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71800" y="1000080"/>
          <a:ext cx="6072120" cy="2857680"/>
        </p:xfrm>
        <a:graphic>
          <a:graphicData uri="http://schemas.openxmlformats.org/drawingml/2006/table">
            <a:tbl>
              <a:tblPr/>
              <a:tblGrid>
                <a:gridCol w="30351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6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9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2604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8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18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5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96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9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857160"/>
          <a:ext cx="8267760" cy="52117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9080"/>
                <a:gridCol w="936360"/>
                <a:gridCol w="93528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8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78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30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0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473256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772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8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626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609,9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016,5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(609,9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Крупец</cp:lastModifiedBy>
  <dcterms:modified xsi:type="dcterms:W3CDTF">2019-04-03T10:51:19Z</dcterms:modified>
  <cp:revision>3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