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9FF-BE03-413A-BA49-A98A3B7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B6E-6EC1-4F64-83A7-33D8D383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188-7BF2-4C92-B1AC-F0741725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99A-AF51-4D5E-B281-0D013E25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27E7-9CBE-4A7E-92BD-239591BC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B43D-190D-4416-A454-F77F5383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34A5-E5D9-418F-AB0F-46BB6C47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52FF-5982-498C-847F-E2FB6A3E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7A70-CDCB-43BA-99F8-64E8CB58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9E6F-A79A-43F8-A963-DD7E28FB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4535-864A-4298-86F8-9ABE17F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CFF-6E31-46A5-9A79-6FB5CC54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3C3D-C32B-4918-ACAB-FEBE26CB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CA0C-E76B-4D66-854E-7560E92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C872-0BCD-411D-99DD-9061FF96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39CD-C29F-4686-9721-BD25C858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C344-EDDF-48FB-9A7B-E487CC4C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16A9-C1C2-413F-874E-FBA5B40C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EA99-A1BA-470B-A8D0-353B1BA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B0B3-EF95-4487-9AB1-A9C087E8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A984-FB93-465D-B88A-4E2B8E10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5C79-72F5-44AA-BE43-CE1F634B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6EBE-A18D-414E-82F5-981AFB7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D0C9-8E96-4448-8A36-0C409F1F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34344-FD52-45B0-8F8B-B622F72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3D2DF-1CEE-4DF9-8E26-10E4763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F2A12-AF43-41C4-8B0B-729D7B1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E69B-42FB-4176-8388-D33E6BC2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C4D9F-4386-4077-AF73-392DA0A3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165E-8F3F-42CB-8C5E-49880F2F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D6A0-6E22-4167-AFC8-BE6CFC73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A935-ED61-4457-8DA5-1F4B5D72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7980-9955-47B9-8519-4BA4571D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477-9F83-4239-858C-0D70A052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8013-B7AD-4506-9528-080B573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5A2C-7098-43CC-B1C6-64BBFE51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6C40-909D-484F-AF20-86C44598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329F-7FE0-410B-86C6-782FF45D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AE6F-8387-4E12-B7DF-10073F9A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60D32-F11F-42C5-9934-F28046A6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83FCD-A807-4B70-8253-EB1B4C48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D5F8D-D4ED-4CC2-81A2-2EDC97FE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FF636-8F48-43FF-ACA3-3350707F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691-78D5-4432-8BEF-2FD70E8E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C2CB-49C8-4E3A-8E1B-C4E2B31E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4B7-6C11-4C04-938E-9C8CF6E5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BFC-F8CF-49E4-935C-DB5B0C41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838-D582-4ACC-BF4E-ADEDF858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ED4-4020-4904-BE27-57C6FDE54183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7063-4629-422E-BBEE-87147FA1E5A8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9A12-62F2-464E-AA0F-ACF666C9552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D48F-6301-43E9-BCC7-386392C4F90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роекту решения Собрания депутатов Крупецкого сельсовета Дмитриевского района Курской области от _____2019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____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0 год и на плановый период 2021 и 2022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92160" y="-1042920"/>
            <a:ext cx="9339480" cy="804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3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0-2022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0-2022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0-2022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0-2022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0-2022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0-2022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0-2022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0-2022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19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0 и 2021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3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3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9982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19-12-03T08:11:46Z</dcterms:modified>
  <cp:revision>196</cp:revision>
  <dc:subject/>
  <dc:title>Презентация PowerPoint</dc:title>
</cp:coreProperties>
</file>