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597-FC5E-4A89-BF98-8F51D1FD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EE1-A6AD-4BCA-91F1-0D6BDD9D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F8D-4F8F-4136-816E-2EB5DD80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17A-7133-426E-9389-21F508E7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9E1F-4295-40A1-BF43-DAB6C9AA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175A-2044-4DCB-ADF8-D00304DA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71CF-A061-4FA8-ACD4-B0D3D2AB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E6C3-C3D7-47F9-BCBD-B52B0156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C740-DDE7-422F-B73F-E8C3EF90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010C-7EEB-4A47-AD63-58ED008C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C39A-100D-42F2-9153-17EBE257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939-3ECE-4D72-A09D-42898594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B8AE-3866-459A-8A4E-AD9A1466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AC46-3D17-4ED6-9B36-EEE80180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7E8C-ABCE-4D8C-AC9D-2E59CF2A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DC7B-BAF7-47F8-8708-B81E9B9C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74CC-D45C-4A82-BF99-F8BDE775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68AAB-289A-4882-B09D-E023ADB4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5514-70A3-448B-927D-8CC7A107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64C7-5C1F-4DA9-97E2-0DBA84E5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4EC8-1AE2-4CAB-9079-244F1C18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28890-0773-485B-88D7-FA1ED97A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27A-3996-4950-A22F-511AF988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0539-3923-4EE7-A553-A377E5D6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340CB-3CC1-4D45-9183-A8038CDC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41107-39C2-46FC-B8C1-8D06D1DC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5518-5BF2-41BC-95E2-F24F1E7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EC7A-CBAB-4C40-92E0-CB9F557A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3A68-B5CD-402D-AA42-76D6A81C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61245-656E-4CA3-BA24-B973BF66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B29DF-945F-411E-B76B-A2018710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C1976-FFAB-4493-B28D-BE45242F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D9D0-7D15-4794-AD65-FC44349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10F-18DA-49E2-8F7A-7047AE44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053B-0F95-4E3B-93EA-6982190B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B8209-064E-4922-9136-88D51D6A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82EA6-9D3D-4BD7-A338-E109D3F2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5D9F5-07A4-4AAF-BE8E-443CA9EF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5F9F6-608E-4043-95BE-80478B4E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5D60-F00B-46BA-926D-E4303F9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2EE58-7892-48D5-92CD-A0F498A1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09D67-C9C4-4C9E-BC99-1E208AAF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1F4B9-F56A-4934-BA87-2EFE9CD9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CEFA9-58A8-411F-815A-6AC28403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11C-00B7-4FCE-92ED-BD0B0B89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FA490-2A17-4BA7-8008-343248B4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EBFF6-A6D4-489F-A135-7B7D7683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904D5-5C5D-4D92-9DD2-C9B120B4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9C25F-9D71-48CF-9040-A856085B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45D9D-9C8E-4D7F-A399-9397E4C5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AF328-BC3C-4E86-AA25-B1646476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516C0-694F-4F57-98A4-CEAA32A1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79AC8-5D55-4C7C-BA8E-C2E01413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E5B6-2821-4A59-B6A6-40BFD03C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E2160-39B5-4C5F-AB55-ECE95A4B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23A-5365-48C3-A337-ED5AB2C0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43EF6-5C82-457E-AB9C-4CC634DC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F2CFE-FC41-413C-965E-F240E5BC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98850-D3A6-4DC5-9C7B-5C86A62C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02E5D-376A-4E17-8A10-391CA312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DEBFA-3E17-4FCD-83C7-71A4593F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FB17-8BF9-45A6-B0F7-2A3F717C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E2655-E75C-4E3C-9519-4367312A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7E7E0-5B77-46C7-8AA6-7BB5C3F5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C33FF-0962-4567-93A0-B05C8F1A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498C-F2E9-4B1E-A0C0-CDD154CD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C8B-4441-4D05-9735-2D55034C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E6B75-9527-4194-B352-0CB1361A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BB273-049E-4197-89DD-3ADCAE1C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5DDA3-846C-48F3-92CD-DD88D3CC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C21DF-83B3-45AB-B6E2-A0FE7CFA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C10F9-555D-49F6-AE27-461E67A8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A553B-6DB1-473D-9E75-6A67110C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D8969-6FAF-4E01-9261-7E91A7EB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27BD0-3D16-43E7-90B2-EF2437E0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AF53B-F72D-4115-AE50-BAE51B15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CE7A4-3D66-4823-8A0B-4FA4A22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EA6-FE72-4FB2-A3FC-2321AA38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DC33E-80C6-4210-A406-7E9B8053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BD8CE-B6C0-4AD8-8B11-29E9C43B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3E5CC-FEDA-42E9-BC17-04AA1C92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1869E-1A4C-42DE-ADF9-6EA5E315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8FB48-2CFC-4B16-97ED-F6B8CE6B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C02-A749-494F-A6B2-CA873959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E37B-3F70-463B-8A8D-92A933E4F85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E871-6AD9-40A4-8794-ACA5DC255C0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D070-963C-47A6-922E-11A311E4432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CAB3-7623-4960-A544-CB37C62BB3D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91F7-AA65-4AE9-9BC3-F1D8D9F3574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3DF4-BECD-4831-907F-669BF4CB37C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1D6E-6147-488E-9EA6-FBB36054330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5"/>
          <p:cNvSpPr txBox="1"/>
          <p:nvPr/>
        </p:nvSpPr>
        <p:spPr>
          <a:xfrm>
            <a:off x="179280" y="115920"/>
            <a:ext cx="885672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полнение бюджета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ля граждан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ниципального образования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«Крупецкой сельсовет»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2019 год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5"/>
          <p:cNvSpPr/>
          <p:nvPr/>
        </p:nvSpPr>
        <p:spPr>
          <a:xfrm>
            <a:off x="928800" y="25560"/>
            <a:ext cx="79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19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"/>
          <p:cNvSpPr/>
          <p:nvPr/>
        </p:nvSpPr>
        <p:spPr>
          <a:xfrm>
            <a:off x="928800" y="1989000"/>
            <a:ext cx="781992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77,8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106200" y="11592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«Крупецкой сельсовет» Дмитриев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Курской области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1143000" y="1413000"/>
            <a:ext cx="764388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е Собрания депутатов Крупецкого сельсове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25 от 17 декабря 2018 года «О бюджете  муниципального образования «Крупецкой сельсовет» Дмитриевского района Курской области  на 2019 год и на плановый период 2020 и 2021 годов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Собрания депутатов Крупецкого сельсовета от 19.12.2019 года № 63 «О внесении изменений в решение Собрания депутатов Крупецкого сельсовета  № 25 от 19 декабря 2018 года «О бюджете муниципального образования «Крупецкой сельсовет» Дмитриевского района Курской области  на 2019 год и на плановый период 2020 и 2021 го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Крупец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Курской области за 201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57200" y="1000080"/>
          <a:ext cx="6786720" cy="2857680"/>
        </p:xfrm>
        <a:graphic>
          <a:graphicData uri="http://schemas.openxmlformats.org/drawingml/2006/table">
            <a:tbl>
              <a:tblPr/>
              <a:tblGrid>
                <a:gridCol w="3749760"/>
                <a:gridCol w="303696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5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9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3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042920" y="798480"/>
          <a:ext cx="7607520" cy="602604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19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019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8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8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1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8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8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564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7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7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352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 использования имущества, находящегося в государственной и 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6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6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8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5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95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95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3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22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22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4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4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врат остатков субсидий, субвенций и иных межбюджетных трансфер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11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1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19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85840" y="857160"/>
          <a:ext cx="8267760" cy="521172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9080"/>
                <a:gridCol w="936360"/>
                <a:gridCol w="93528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9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9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302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0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5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ервичных мер пожарной безопасности в границах населенных пунктов муниципальных образ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214200" y="214200"/>
          <a:ext cx="8245440" cy="444024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9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9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ad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5"/>
          <p:cNvSpPr/>
          <p:nvPr/>
        </p:nvSpPr>
        <p:spPr>
          <a:xfrm>
            <a:off x="1071720" y="1260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Диаграмма 3" descr=""/>
          <p:cNvPicPr/>
          <p:nvPr/>
        </p:nvPicPr>
        <p:blipFill>
          <a:blip r:embed="rId1"/>
          <a:stretch/>
        </p:blipFill>
        <p:spPr>
          <a:xfrm>
            <a:off x="504720" y="1000080"/>
            <a:ext cx="8543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5"/>
          <p:cNvSpPr/>
          <p:nvPr/>
        </p:nvSpPr>
        <p:spPr>
          <a:xfrm>
            <a:off x="1071720" y="2556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19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1581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лок-схема: альтернативный процесс 4"/>
          <p:cNvSpPr/>
          <p:nvPr/>
        </p:nvSpPr>
        <p:spPr>
          <a:xfrm>
            <a:off x="857160" y="2538360"/>
            <a:ext cx="300060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49,8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лок-схема: альтернативный процесс 7"/>
          <p:cNvSpPr/>
          <p:nvPr/>
        </p:nvSpPr>
        <p:spPr>
          <a:xfrm>
            <a:off x="5435640" y="2492280"/>
            <a:ext cx="306540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031,7 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процесс 5"/>
          <p:cNvSpPr/>
          <p:nvPr/>
        </p:nvSpPr>
        <p:spPr>
          <a:xfrm>
            <a:off x="1357200" y="4508640"/>
            <a:ext cx="214308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(549,8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Прямая со стрелкой 6"/>
          <p:cNvCxnSpPr>
            <a:stCxn id="336" idx="3"/>
            <a:endCxn id="337" idx="0"/>
          </p:cNvCxnSpPr>
          <p:nvPr/>
        </p:nvCxnSpPr>
        <p:spPr>
          <a:xfrm flipH="1">
            <a:off x="2356560" y="2319480"/>
            <a:ext cx="23724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1" name="Прямая со стрелкой 14"/>
          <p:cNvCxnSpPr>
            <a:stCxn id="336" idx="4"/>
            <a:endCxn id="338" idx="0"/>
          </p:cNvCxnSpPr>
          <p:nvPr/>
        </p:nvCxnSpPr>
        <p:spPr>
          <a:xfrm flipV="1">
            <a:off x="4716360" y="2491560"/>
            <a:ext cx="22536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3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Крупец</cp:lastModifiedBy>
  <dcterms:modified xsi:type="dcterms:W3CDTF">2020-04-21T09:12:04Z</dcterms:modified>
  <cp:revision>39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