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E3A6-EE83-40A6-A7A3-24733ED12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5A53-D756-4B04-BC0E-C77C9D135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9347-8D7B-47D0-9935-44A8FE86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42DB-F0B3-46FE-BF7F-BB88A8CE9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7CA67-B1B6-4E7D-9599-57AE08BF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E569C-9A1A-40FF-9EEB-8C1A6035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93A6-F11D-4D45-AB6C-867E4FAA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CC7C-4B00-45CD-99A9-D881CAB80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9B74-EBC1-4075-97F4-5667FCE76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94C2-62D6-4906-A5A0-6798EA4F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269CC-FA67-4078-8E15-718B7E2E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C2D9-D9F2-4DBD-AE97-09908983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6103-7288-422D-8125-73A29C21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BEC3-9339-4F49-9649-872E13D2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32E90-A526-4D44-BB5B-ED93A40D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CC23-AAC7-4A29-B06D-306EF18C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F2B3-946C-4B29-A4B7-31159542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6917A-F9E3-408A-8A77-44CB2BF4D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2FB87-D915-4A99-A393-19AB394A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FBDC-8996-4C76-A3C8-8888E9B5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8F763-7077-482D-BF4E-C8A3149DA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54CB9-42BE-4508-BA5B-6FA2A055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0FCD-28D5-4E61-8C55-F0E1B6FA1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27C59-5A06-4EB2-AD0F-02487E01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37363-E041-477A-BA02-5289CCA0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631B8-2039-4050-926E-CDAA5783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3F618-6ECF-4EB2-B5B9-A9E01338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B8DD3-23B3-472B-8623-759916652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16CEF-1ED6-46B4-9866-F239C6B6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D9377-71D5-41AA-B6FC-24462BCA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E71B8-8D60-482B-9D6D-B567AE9DD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93E22-0783-49FB-8897-B917E8E5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576D9-DFA1-40E7-896F-BAD8F4522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4382-5756-4821-82E0-A75880B0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10EC4-5267-424B-9EFF-20BB368D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9BA7B-D849-467D-B0A9-AAACDD96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9FE8E-37B9-4E2F-90F3-2FEB5CA8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EE873-37D3-4193-8673-B424DDCB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7F95A2-81AF-4FAF-AC70-6DE046F3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D299F-B7EA-4351-B00F-31BACD400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5B1CD-6CE4-41AD-AAE4-68524E52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A2448-7C0D-4483-9238-75E1F2BE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E8552-60DD-4836-B557-1E10442C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518-154A-41FA-989C-C374868F3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EA0A-86D0-42AA-8E44-668ADAE7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28F4-DF91-4399-8826-01C6A1C3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03E9-816B-49FE-8664-2D9E9C49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7A7-99AB-4513-8B2C-B0906B1C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DC2E-6DE9-4304-B20C-88A554A97E94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A893-0F59-4424-AB32-8D113D3BFDD1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95B7-2467-4812-9A7F-EA277F295305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F5AE-79BF-4333-BFF5-3A4A416A2E01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проекту решения Собрания депутатов Крупецкого сельсовета Дмитриевского района Курской области от _____2020г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№ ____ «О бюджете муниципального образования «Крупецкой сельсовет» Дмитриевского района Ку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2021 год и на плановый период 2022 и 2023 годов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566640" y="2419200"/>
            <a:ext cx="265284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2214720"/>
            <a:ext cx="2428920" cy="1714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-291960" y="-1006560"/>
            <a:ext cx="9509040" cy="801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55640" y="836640"/>
          <a:ext cx="7848720" cy="393696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24000" y="549360"/>
          <a:ext cx="8351640" cy="4503600"/>
        </p:xfrm>
        <a:graphic>
          <a:graphicData uri="http://schemas.openxmlformats.org/drawingml/2006/table">
            <a:tbl>
              <a:tblPr/>
              <a:tblGrid>
                <a:gridCol w="3962160"/>
                <a:gridCol w="1500120"/>
                <a:gridCol w="1500480"/>
                <a:gridCol w="1388880"/>
              </a:tblGrid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Крупецкой сельсовет» на 2021-2023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Крупецкого сельсовета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 граждан в муниципальном образовании «Крупецкой сельсовет»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Крупецком сельсовете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5840" y="417600"/>
          <a:ext cx="8318520" cy="2224080"/>
        </p:xfrm>
        <a:graphic>
          <a:graphicData uri="http://schemas.openxmlformats.org/drawingml/2006/table">
            <a:tbl>
              <a:tblPr/>
              <a:tblGrid>
                <a:gridCol w="3429000"/>
                <a:gridCol w="1928880"/>
                <a:gridCol w="1571400"/>
                <a:gridCol w="13892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Крупецком сельсовете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236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370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280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5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768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ект бюджета муниципального образования «Крупецкой сельсовет» на 2021-2023 годы формируется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7" name="Рисунок 15" descr="DSC01350.JPG"/>
          <p:cNvPicPr/>
          <p:nvPr/>
        </p:nvPicPr>
        <p:blipFill>
          <a:blip r:embed="rId4"/>
          <a:stretch/>
        </p:blipFill>
        <p:spPr>
          <a:xfrm>
            <a:off x="5357880" y="2500200"/>
            <a:ext cx="3143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3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60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35812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7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Основные характеристики проекта бюджета муниципального образования «Крупецкой сельсовет» на 2021 год  и на плановый период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2022 и 2023 годов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Прямая со стрелкой 5"/>
          <p:cNvCxnSpPr>
            <a:stCxn id="291" idx="6"/>
            <a:endCxn id="290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3" name="Прямая со стрелкой 7"/>
          <p:cNvCxnSpPr>
            <a:stCxn id="294" idx="2"/>
            <a:endCxn id="290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>
            <a:endCxn id="290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6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, межбюджетные трансферты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0240" y="-6480"/>
            <a:ext cx="90471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Крупец</cp:lastModifiedBy>
  <dcterms:modified xsi:type="dcterms:W3CDTF">2020-12-04T11:18:37Z</dcterms:modified>
  <cp:revision>199</cp:revision>
  <dc:subject/>
  <dc:title>Презентация PowerPoint</dc:title>
</cp:coreProperties>
</file>