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7AF8-3B28-4817-8276-6E4542E5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A0BF-C15A-4D8C-8724-7FCC3FAA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345-1A33-4A98-982D-99F41B68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8868-06AE-42FD-82E5-01F4C7A50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8CC6-EB3B-4384-994F-61A24AB4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0BE88-F328-4F3A-B0D2-4568F34B9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FB794-2889-493F-8AA2-FFF9CB3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9BA3-AC9F-4DF7-A933-7AD81C4D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8009-AE54-47BA-90FE-4E9F8E702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D832-3D24-416C-9704-7EAB3AF4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B8C5-AEC2-4A7F-B42E-AC57C6A47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273-AAA5-492D-A775-936B240A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F677-7918-4C49-A01F-E6820170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6A1D5-331F-4FF2-BF23-4464EB1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F0B0C-8F34-4AA1-9AE2-0411422A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539F2-BD33-4DBB-BCED-B9D125E80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BC67-89E3-4220-AF69-C5B4CADC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C179E-EDC5-4F77-AB30-6BAEAC429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99E85-ED56-404C-9712-34A188624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7CC62-03DC-47E0-9899-11C177B58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B81FF-6582-43A2-90B7-25B00ECE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7ACD1-E0C2-4360-A14E-E55B07B55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F24-4204-45D0-A38E-1449A51F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ED95F7-E2C9-47B9-B057-0B540A56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57DD3-03A4-4964-8439-070692DC7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A9EEC-A12B-4D48-9E23-CB95ED13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145B6-6B5D-4553-ACD0-FFD806F6E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7F57A-7BDD-4491-A9FF-D45F467F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42A33-95EA-4FE8-A960-C8C3D1430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72C39-D59E-4402-A922-208EB2D02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5117-D583-44FE-89C2-10397AB2B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17F89-7EB7-404B-B1DD-506B656A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966B-030D-4E09-8A43-D1CD459A2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AB1-7FF4-4754-947E-41E402FB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43737-E4BE-48B9-B68C-6EB452E1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F40E5-EF04-4E36-9DD2-EDF9EB759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672F4-0C57-41E0-870C-629311B1E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38DFD-4A4C-4AD4-AC81-3B3496F8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A50F9-BBEA-4E6B-A15F-6D82BCA0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7C8A9-9B6F-4999-ADDF-F382B913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1A818-DA8A-4C9A-98C0-AECCEA04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EF37D-719A-46C3-A25B-AA4346CC7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D819D-8B8C-4BDF-8FAE-1043E7A09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59A7-3F99-48AC-A0B2-46A7F40BC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5BC-62C2-4ABB-9CBD-D5F33007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0C20-8D1C-45A0-B5BD-EA15DCF56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6F3-D71F-4775-BEEF-EBABC30C9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BA2-1CD1-45DE-8547-09BCE1E5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15C1-9DDC-4C66-8856-16B98D22193A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2338-083C-4729-8CAB-EFBC7DA07DC2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21D9C-F859-4F4D-893B-45C4A0C53947}" type="slidenum">
              <a:rPr b="0" lang="ru-RU" sz="1200" spc="-1" strike="noStrike">
                <a:solidFill>
                  <a:srgbClr val="d1eaee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509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62c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f6fc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81B1D-B33A-4ED0-959F-35E82D8EEFF9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196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40428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Бюджет </a:t>
            </a:r>
            <a:br>
              <a:rPr sz="2900"/>
            </a:br>
            <a:r>
              <a:rPr b="1" lang="ru-RU" sz="2900" spc="-1" strike="noStrike">
                <a:solidFill>
                  <a:srgbClr val="ff0000"/>
                </a:solidFill>
                <a:latin typeface="Calibri"/>
              </a:rPr>
              <a:t>для граждан</a:t>
            </a:r>
            <a:br>
              <a:rPr sz="2900"/>
            </a:br>
            <a:br>
              <a:rPr sz="2900"/>
            </a:br>
            <a:br>
              <a:rPr sz="29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 решению Собрания депутатов Крупецкого сельсовета Дмитриевского района Курской области от 17.12.2020г.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№ 94 «О бюджете муниципального образования «Крупецкой сельсовет» Дмитриевского района Курской области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а 2021 год и на плановый период 2022 и 2023 годов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5" name="Picture 17" descr="http://cs106.vk.me/v106555/5a/N6Hs0Brnc-g.jpg"/>
          <p:cNvPicPr/>
          <p:nvPr/>
        </p:nvPicPr>
        <p:blipFill>
          <a:blip r:embed="rId2"/>
          <a:stretch/>
        </p:blipFill>
        <p:spPr>
          <a:xfrm>
            <a:off x="566640" y="2419200"/>
            <a:ext cx="2652840" cy="1871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https://img-fotki.yandex.ru/get/6201/55543982.e0/0_b9b7c_dc20353d_L"/>
          <p:cNvPicPr/>
          <p:nvPr/>
        </p:nvPicPr>
        <p:blipFill>
          <a:blip r:embed="rId3"/>
          <a:stretch/>
        </p:blipFill>
        <p:spPr>
          <a:xfrm>
            <a:off x="6224760" y="2206800"/>
            <a:ext cx="2151000" cy="16160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1" descr="http://cs403018.vk.me/v403018988/4228/4hyM1kjbv5M.jpg"/>
          <p:cNvPicPr/>
          <p:nvPr/>
        </p:nvPicPr>
        <p:blipFill>
          <a:blip r:embed="rId4"/>
          <a:stretch/>
        </p:blipFill>
        <p:spPr>
          <a:xfrm>
            <a:off x="3992400" y="328680"/>
            <a:ext cx="1092240" cy="1262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5" descr="SAM_3608"/>
          <p:cNvPicPr/>
          <p:nvPr/>
        </p:nvPicPr>
        <p:blipFill>
          <a:blip r:embed="rId5"/>
          <a:stretch/>
        </p:blipFill>
        <p:spPr>
          <a:xfrm>
            <a:off x="6215040" y="2214720"/>
            <a:ext cx="2428920" cy="171432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sp>
        <p:nvSpPr>
          <p:cNvPr id="209" name="Rectangle 17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6" descr="DSCF1639"/>
          <p:cNvPicPr/>
          <p:nvPr/>
        </p:nvPicPr>
        <p:blipFill>
          <a:blip r:embed="rId6"/>
          <a:stretch/>
        </p:blipFill>
        <p:spPr>
          <a:xfrm>
            <a:off x="3143160" y="214200"/>
            <a:ext cx="2857680" cy="2071800"/>
          </a:xfrm>
          <a:prstGeom prst="rect">
            <a:avLst/>
          </a:prstGeom>
          <a:ln w="28440">
            <a:solidFill>
              <a:srgbClr val="80008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Заголовок 3" descr=""/>
          <p:cNvPicPr/>
          <p:nvPr/>
        </p:nvPicPr>
        <p:blipFill>
          <a:blip r:embed="rId1"/>
          <a:stretch/>
        </p:blipFill>
        <p:spPr>
          <a:xfrm>
            <a:off x="-231840" y="-1487520"/>
            <a:ext cx="9498240" cy="83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Text Box 2"/>
          <p:cNvGrpSpPr/>
          <p:nvPr/>
        </p:nvGrpSpPr>
        <p:grpSpPr>
          <a:xfrm>
            <a:off x="0" y="-6480"/>
            <a:ext cx="9150480" cy="6162840"/>
            <a:chOff x="0" y="-6480"/>
            <a:chExt cx="9150480" cy="6162840"/>
          </a:xfrm>
        </p:grpSpPr>
        <p:pic>
          <p:nvPicPr>
            <p:cNvPr id="30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6480" y="-144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2016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руктура расходов бюджета  муниципального образования «Крупецкой сельсовет» по разделам бюджетной классификации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755640" y="836640"/>
          <a:ext cx="7848720" cy="3936960"/>
        </p:xfrm>
        <a:graphic>
          <a:graphicData uri="http://schemas.openxmlformats.org/drawingml/2006/table">
            <a:tbl>
              <a:tblPr/>
              <a:tblGrid>
                <a:gridCol w="511200"/>
                <a:gridCol w="2376360"/>
                <a:gridCol w="1785960"/>
                <a:gridCol w="1643040"/>
                <a:gridCol w="153216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 </a:t>
                      </a: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щегосударственные  вопрос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8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3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оборо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4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циональная безопасность и правоохранительная деятель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лищно-коммунальное хозяйств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6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1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, кинематограф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оциальная полити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зическая культура и спор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Text Box 2"/>
          <p:cNvGrpSpPr/>
          <p:nvPr/>
        </p:nvGrpSpPr>
        <p:grpSpPr>
          <a:xfrm>
            <a:off x="0" y="0"/>
            <a:ext cx="9144000" cy="6168960"/>
            <a:chOff x="0" y="0"/>
            <a:chExt cx="9144000" cy="6168960"/>
          </a:xfrm>
        </p:grpSpPr>
        <p:pic>
          <p:nvPicPr>
            <p:cNvPr id="312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6480" y="6480"/>
              <a:ext cx="913104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324000" y="549360"/>
          <a:ext cx="8351640" cy="4321080"/>
        </p:xfrm>
        <a:graphic>
          <a:graphicData uri="http://schemas.openxmlformats.org/drawingml/2006/table">
            <a:tbl>
              <a:tblPr/>
              <a:tblGrid>
                <a:gridCol w="3962160"/>
                <a:gridCol w="1500120"/>
                <a:gridCol w="1500480"/>
                <a:gridCol w="1388880"/>
              </a:tblGrid>
              <a:tr h="582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Развитие культуры  в муниципальном образовании «Крупецкой сельсовет» на 2021-2023 годы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6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Социальная поддержка  граждан  Крупецкого сельсовета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Обеспечение доступным и комфортным жильём и коммунальными услугами  граждан в муниципальном образовании «Крупецкой сельсовет»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Повышение эффективности работы с молодежью, организация отдыха и оздоровления детей, молодежи, развитие физической культуры и спорта в муниципальном образовании «Крупецкой сельсовет»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Развитие муниципальной службы в Крупецком сельсовете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Text Box 2"/>
          <p:cNvGrpSpPr/>
          <p:nvPr/>
        </p:nvGrpSpPr>
        <p:grpSpPr>
          <a:xfrm>
            <a:off x="6480" y="-6480"/>
            <a:ext cx="9144000" cy="6169320"/>
            <a:chOff x="6480" y="-6480"/>
            <a:chExt cx="9144000" cy="6169320"/>
          </a:xfrm>
        </p:grpSpPr>
        <p:pic>
          <p:nvPicPr>
            <p:cNvPr id="322" name="Text Box 2" descr=""/>
            <p:cNvPicPr/>
            <p:nvPr/>
          </p:nvPicPr>
          <p:blipFill>
            <a:blip r:embed="rId1"/>
            <a:stretch/>
          </p:blipFill>
          <p:spPr>
            <a:xfrm>
              <a:off x="6480" y="-6480"/>
              <a:ext cx="914400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12600" y="0"/>
              <a:ext cx="913140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4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260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Муниципальные программы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285840" y="417600"/>
          <a:ext cx="8318520" cy="2224080"/>
        </p:xfrm>
        <a:graphic>
          <a:graphicData uri="http://schemas.openxmlformats.org/drawingml/2006/table">
            <a:tbl>
              <a:tblPr/>
              <a:tblGrid>
                <a:gridCol w="3429000"/>
                <a:gridCol w="1928880"/>
                <a:gridCol w="1571400"/>
                <a:gridCol w="138924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ыс.рублей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Профилактика правонарушений в Крупецком сельсовете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Защита населения и территории от чрезвычайных ситуаций, обеспечение пожарной безопасности и безопасности людей на водных объектах на 2021-2023 го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Заголовок 1" descr=""/>
          <p:cNvPicPr/>
          <p:nvPr/>
        </p:nvPicPr>
        <p:blipFill>
          <a:blip r:embed="rId1"/>
          <a:stretch/>
        </p:blipFill>
        <p:spPr>
          <a:xfrm>
            <a:off x="706320" y="268200"/>
            <a:ext cx="82360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43040" y="1714680"/>
            <a:ext cx="6500880" cy="3652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ff0000"/>
                </a:solidFill>
                <a:latin typeface="Calibri"/>
              </a:rPr>
              <a:t>Спасибо, что посетили информационный ресурс «Бюджет для граждан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341280" y="1311120"/>
            <a:ext cx="7967520" cy="1413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51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Территория 66,48 кв.км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: общая численность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2370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Население трудоспособного возраста: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1280 человек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Дети до 18 лет: 354 человек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nstantia"/>
              </a:rPr>
              <a:t>Численность  пенсионеров: 768 человека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2"/>
          <a:srcRect l="5893" t="0" r="5893" b="0"/>
          <a:stretch/>
        </p:blipFill>
        <p:spPr>
          <a:xfrm>
            <a:off x="5857920" y="2000160"/>
            <a:ext cx="285732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15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7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89000"/>
            <a:ext cx="8229600" cy="90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Что такое бюджет для граждан?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468360" y="1268280"/>
            <a:ext cx="806436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Бюджет для граждан – это упрощенная версия бюджетного документа, которая использует неформальный язык и доступные документы,  чтобы облегчить для граждан понимание бюджета. Он содержит информационно-аналитический материал, доступный для широкого круга подготовленных пользователей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юджет муниципального образования «Крупецкой сельсовет» на 2021-2023 годы утвержден на три года, в соответствии с действующим законодательством. Проект бюджета рассматривается и обсуждается на публичных слушаниях среди населения. Подлежит опубликованию в газете «Дмитриевский вестник» и на сайте Администрации Крупецкого сельсовета. В течении года  производится уточнение бюджета муниципального образования «Крупецкой сельсовет»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Рисунок 21" descr="B:\мои док\разное\фото\IMG_1666.JPG"/>
          <p:cNvPicPr/>
          <p:nvPr/>
        </p:nvPicPr>
        <p:blipFill>
          <a:blip r:embed="rId2"/>
          <a:stretch/>
        </p:blipFill>
        <p:spPr>
          <a:xfrm>
            <a:off x="822240" y="2633760"/>
            <a:ext cx="3213360" cy="1809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5" descr="PA180053"/>
          <p:cNvPicPr/>
          <p:nvPr/>
        </p:nvPicPr>
        <p:blipFill>
          <a:blip r:embed="rId3"/>
          <a:stretch/>
        </p:blipFill>
        <p:spPr>
          <a:xfrm>
            <a:off x="928800" y="2500200"/>
            <a:ext cx="3857400" cy="1928880"/>
          </a:xfrm>
          <a:prstGeom prst="rect">
            <a:avLst/>
          </a:prstGeom>
          <a:ln w="28440">
            <a:solidFill>
              <a:srgbClr val="0000ff"/>
            </a:solidFill>
            <a:miter/>
          </a:ln>
        </p:spPr>
      </p:pic>
      <p:pic>
        <p:nvPicPr>
          <p:cNvPr id="227" name="Рисунок 15" descr="DSC01350.JPG"/>
          <p:cNvPicPr/>
          <p:nvPr/>
        </p:nvPicPr>
        <p:blipFill>
          <a:blip r:embed="rId4"/>
          <a:stretch/>
        </p:blipFill>
        <p:spPr>
          <a:xfrm>
            <a:off x="5357880" y="2500200"/>
            <a:ext cx="3143160" cy="20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2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404280"/>
            <a:ext cx="73724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alibri"/>
              </a:rPr>
              <a:t>Что такое бюджет</a:t>
            </a:r>
            <a:br>
              <a:rPr sz="3600"/>
            </a:br>
            <a:br>
              <a:rPr sz="36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Бюджет –это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.</a:t>
            </a: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39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1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40464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Бюджет муниципального образования «Крупецкой сельсовет» составлен и утвержден сроком на три года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8" name="Скругленный прямоугольник 2" descr=""/>
          <p:cNvPicPr/>
          <p:nvPr/>
        </p:nvPicPr>
        <p:blipFill>
          <a:blip r:embed="rId2"/>
          <a:stretch/>
        </p:blipFill>
        <p:spPr>
          <a:xfrm>
            <a:off x="1042920" y="2084400"/>
            <a:ext cx="7491600" cy="68256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ая соединительная линия 5"/>
          <p:cNvSpPr/>
          <p:nvPr/>
        </p:nvSpPr>
        <p:spPr>
          <a:xfrm>
            <a:off x="4572000" y="2637000"/>
            <a:ext cx="0" cy="64764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Прямая соединительная линия 7"/>
          <p:cNvSpPr/>
          <p:nvPr/>
        </p:nvSpPr>
        <p:spPr>
          <a:xfrm>
            <a:off x="1332000" y="3284640"/>
            <a:ext cx="6480000" cy="0"/>
          </a:xfrm>
          <a:prstGeom prst="line">
            <a:avLst/>
          </a:prstGeom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1" name="Прямая со стрелкой 10"/>
          <p:cNvCxnSpPr/>
          <p:nvPr/>
        </p:nvCxnSpPr>
        <p:spPr>
          <a:xfrm>
            <a:off x="13442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2" name="Прямая со стрелкой 12"/>
          <p:cNvCxnSpPr/>
          <p:nvPr/>
        </p:nvCxnSpPr>
        <p:spPr>
          <a:xfrm>
            <a:off x="781164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53" name="Скругленный прямоугольник 13"/>
          <p:cNvSpPr/>
          <p:nvPr/>
        </p:nvSpPr>
        <p:spPr>
          <a:xfrm>
            <a:off x="444600" y="3867120"/>
            <a:ext cx="1800000" cy="1871640"/>
          </a:xfrm>
          <a:custGeom>
            <a:avLst/>
            <a:gdLst>
              <a:gd name="textAreaLeft" fmla="*/ 87840 w 1800000"/>
              <a:gd name="textAreaRight" fmla="*/ 1712160 w 180000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60">
                <a:moveTo>
                  <a:pt x="3600" y="0"/>
                </a:moveTo>
                <a:arcTo wR="3600" hR="3600" stAng="16200000" swAng="-5400000"/>
                <a:lnTo>
                  <a:pt x="0" y="18860"/>
                </a:lnTo>
                <a:arcTo wR="3600" hR="3600" stAng="10800000" swAng="-5400000"/>
                <a:lnTo>
                  <a:pt x="18000" y="2246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Бюджетном послании Президен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Российско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Федерац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Скругленный прямоугольник 23"/>
          <p:cNvSpPr/>
          <p:nvPr/>
        </p:nvSpPr>
        <p:spPr>
          <a:xfrm>
            <a:off x="2664000" y="3876840"/>
            <a:ext cx="1800000" cy="1873080"/>
          </a:xfrm>
          <a:custGeom>
            <a:avLst/>
            <a:gdLst>
              <a:gd name="textAreaLeft" fmla="*/ 93600 w 1800000"/>
              <a:gd name="textAreaRight" fmla="*/ 1706400 w 1800000"/>
              <a:gd name="textAreaTop" fmla="*/ 93600 h 1873080"/>
              <a:gd name="textAreaBottom" fmla="*/ 1779480 h 1873080"/>
            </a:gdLst>
            <a:ahLst/>
            <a:rect l="textAreaLeft" t="textAreaTop" r="textAreaRight" b="textAreaBottom"/>
            <a:pathLst>
              <a:path w="21600" h="22477">
                <a:moveTo>
                  <a:pt x="3842" y="0"/>
                </a:moveTo>
                <a:arcTo wR="3842" hR="3842" stAng="16200000" swAng="-5400000"/>
                <a:lnTo>
                  <a:pt x="0" y="18635"/>
                </a:lnTo>
                <a:arcTo wR="3842" hR="3842" stAng="10800000" swAng="-5400000"/>
                <a:lnTo>
                  <a:pt x="17758" y="22477"/>
                </a:lnTo>
                <a:arcTo wR="3842" hR="3842" stAng="5400000" swAng="-5400000"/>
                <a:lnTo>
                  <a:pt x="21600" y="3842"/>
                </a:lnTo>
                <a:arcTo wR="3842" hR="3842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рогноз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социально- экономического разви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Крупецкого сельсов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Скругленный прямоугольник 24"/>
          <p:cNvSpPr/>
          <p:nvPr/>
        </p:nvSpPr>
        <p:spPr>
          <a:xfrm>
            <a:off x="475128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Основных направлениях бюджетной и налоговой политики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Скругленный прямоугольник 31"/>
          <p:cNvSpPr/>
          <p:nvPr/>
        </p:nvSpPr>
        <p:spPr>
          <a:xfrm>
            <a:off x="6912000" y="3887640"/>
            <a:ext cx="1800360" cy="187164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1871640"/>
              <a:gd name="textAreaBottom" fmla="*/ 1783800 h 1871640"/>
            </a:gdLst>
            <a:ahLst/>
            <a:rect l="textAreaLeft" t="textAreaTop" r="textAreaRight" b="textAreaBottom"/>
            <a:pathLst>
              <a:path w="21600" h="22455">
                <a:moveTo>
                  <a:pt x="3600" y="0"/>
                </a:moveTo>
                <a:arcTo wR="3600" hR="3600" stAng="16200000" swAng="-5400000"/>
                <a:lnTo>
                  <a:pt x="0" y="18855"/>
                </a:lnTo>
                <a:arcTo wR="3600" hR="3600" stAng="10800000" swAng="-5400000"/>
                <a:lnTo>
                  <a:pt x="18000" y="224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Муниципальных программах Крупецкого сельсовет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7" name="Прямая со стрелкой 32"/>
          <p:cNvCxnSpPr/>
          <p:nvPr/>
        </p:nvCxnSpPr>
        <p:spPr>
          <a:xfrm>
            <a:off x="3563640" y="3284640"/>
            <a:ext cx="1080" cy="57636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58" name="Прямая со стрелкой 33"/>
          <p:cNvCxnSpPr/>
          <p:nvPr/>
        </p:nvCxnSpPr>
        <p:spPr>
          <a:xfrm>
            <a:off x="5651280" y="3290400"/>
            <a:ext cx="1080" cy="57708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Text Box 2"/>
          <p:cNvGrpSpPr/>
          <p:nvPr/>
        </p:nvGrpSpPr>
        <p:grpSpPr>
          <a:xfrm>
            <a:off x="-6480" y="-6480"/>
            <a:ext cx="9150480" cy="6169320"/>
            <a:chOff x="-6480" y="-6480"/>
            <a:chExt cx="9150480" cy="6169320"/>
          </a:xfrm>
        </p:grpSpPr>
        <p:pic>
          <p:nvPicPr>
            <p:cNvPr id="260" name="Text Box 2" descr=""/>
            <p:cNvPicPr/>
            <p:nvPr/>
          </p:nvPicPr>
          <p:blipFill>
            <a:blip r:embed="rId1"/>
            <a:stretch/>
          </p:blipFill>
          <p:spPr>
            <a:xfrm>
              <a:off x="-648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85480" y="1071360"/>
            <a:ext cx="8358120" cy="4230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</a:t>
            </a:r>
            <a:br>
              <a:rPr sz="3600"/>
            </a:br>
            <a:br>
              <a:rPr sz="36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оходы бюджета- поступающие в бюджет денежные средства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Расходы бюджета- выплачиваемые из бюджета денежные средства </a:t>
            </a:r>
            <a:br>
              <a:rPr sz="1400"/>
            </a:br>
            <a:br>
              <a:rPr sz="14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ХОДЫ-РАСХОДЫ=ДЕФИЦИТ (ПРОФИЦИТ)</a:t>
            </a:r>
            <a:br>
              <a:rPr sz="1800"/>
            </a:br>
            <a:br>
              <a:rPr sz="18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Дефицит- 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превышение расходов над доходами (изыскиваются источники покрытия дефицита бюджета –использование остатков, сложившихся на начало финансового года, привлечение банковских и бюджетных кредитов).</a:t>
            </a:r>
            <a:br>
              <a:rPr sz="1400"/>
            </a:b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рофицит</a:t>
            </a:r>
            <a:r>
              <a:rPr b="0" lang="ru-RU" sz="1400" spc="-1" strike="noStrike">
                <a:solidFill>
                  <a:srgbClr val="ff0000"/>
                </a:solidFill>
                <a:latin typeface="Arial"/>
              </a:rPr>
              <a:t>- превышение доходов над расходами  (принимается решение об использовании доходов – накапливать резервы, остатки, погашать долг)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Text Box 2"/>
          <p:cNvGrpSpPr/>
          <p:nvPr/>
        </p:nvGrpSpPr>
        <p:grpSpPr>
          <a:xfrm>
            <a:off x="0" y="-6480"/>
            <a:ext cx="9150480" cy="6169320"/>
            <a:chOff x="0" y="-6480"/>
            <a:chExt cx="9150480" cy="6169320"/>
          </a:xfrm>
        </p:grpSpPr>
        <p:pic>
          <p:nvPicPr>
            <p:cNvPr id="270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-6480"/>
              <a:ext cx="9150480" cy="616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6480" y="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2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Основные характеристики бюджета муниципального образования «Крупецкой сельсовет» на 2021 год  и на плановый период </a:t>
            </a:r>
            <a:br>
              <a:rPr sz="2200"/>
            </a:br>
            <a:r>
              <a:rPr b="1" lang="ru-RU" sz="2200" spc="-1" strike="noStrike">
                <a:solidFill>
                  <a:srgbClr val="ff0000"/>
                </a:solidFill>
                <a:latin typeface="Calibri"/>
              </a:rPr>
              <a:t>2022 и 2023 годов 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395280" y="1341360"/>
          <a:ext cx="8280360" cy="4319640"/>
        </p:xfrm>
        <a:graphic>
          <a:graphicData uri="http://schemas.openxmlformats.org/drawingml/2006/table">
            <a:tbl>
              <a:tblPr/>
              <a:tblGrid>
                <a:gridCol w="2033640"/>
                <a:gridCol w="2357280"/>
                <a:gridCol w="2000520"/>
                <a:gridCol w="1888920"/>
              </a:tblGrid>
              <a:tr h="119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1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23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тыс.рублей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хо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93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1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53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фицит(-)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ицит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Text Box 2"/>
          <p:cNvGrpSpPr/>
          <p:nvPr/>
        </p:nvGrpSpPr>
        <p:grpSpPr>
          <a:xfrm>
            <a:off x="0" y="0"/>
            <a:ext cx="9150480" cy="6168960"/>
            <a:chOff x="0" y="0"/>
            <a:chExt cx="9150480" cy="6168960"/>
          </a:xfrm>
        </p:grpSpPr>
        <p:pic>
          <p:nvPicPr>
            <p:cNvPr id="281" name="Text Box 2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50480" cy="616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6480" y="6480"/>
              <a:ext cx="9137520" cy="615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3" name="Text Box 3"/>
          <p:cNvSpPr/>
          <p:nvPr/>
        </p:nvSpPr>
        <p:spPr>
          <a:xfrm>
            <a:off x="0" y="6524640"/>
            <a:ext cx="9144000" cy="30708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99e6"/>
                </a:solidFill>
                <a:latin typeface="Times New Roman"/>
                <a:ea typeface="Arial"/>
              </a:rPr>
              <a:t>Администрация Крупецкого сельсовета Дмитриевского района  Курской обла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0" y="6165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ectangle 6"/>
          <p:cNvSpPr/>
          <p:nvPr/>
        </p:nvSpPr>
        <p:spPr>
          <a:xfrm flipV="1">
            <a:off x="0" y="6288120"/>
            <a:ext cx="9144000" cy="9360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0" y="6381720"/>
            <a:ext cx="9144000" cy="71640"/>
          </a:xfrm>
          <a:prstGeom prst="rect">
            <a:avLst/>
          </a:prstGeom>
          <a:gradFill rotWithShape="0">
            <a:gsLst>
              <a:gs pos="0">
                <a:srgbClr val="0f6fc6"/>
              </a:gs>
              <a:gs pos="100000">
                <a:srgbClr val="07335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4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35"/>
          <p:cNvSpPr/>
          <p:nvPr/>
        </p:nvSpPr>
        <p:spPr>
          <a:xfrm>
            <a:off x="0" y="23385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Доходы бюджета муниципального образован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«Крупецкой сельсовет»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Равнобедренный треугольник 2"/>
          <p:cNvSpPr/>
          <p:nvPr/>
        </p:nvSpPr>
        <p:spPr>
          <a:xfrm>
            <a:off x="3087720" y="836640"/>
            <a:ext cx="2879640" cy="23050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ЮДЖЕ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безвозмездные и безвозвратны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денежных средств в бюдже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Овал 13"/>
          <p:cNvSpPr/>
          <p:nvPr/>
        </p:nvSpPr>
        <p:spPr>
          <a:xfrm>
            <a:off x="279360" y="117324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от уплаты налогов, установленных Налоговым кодексо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Российской Федерации,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пример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доходы физических лиц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Налог на имущество;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земельный налог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- друг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2" name="Прямая со стрелкой 5"/>
          <p:cNvCxnSpPr>
            <a:stCxn id="291" idx="6"/>
            <a:endCxn id="290" idx="1"/>
          </p:cNvCxnSpPr>
          <p:nvPr/>
        </p:nvCxnSpPr>
        <p:spPr>
          <a:xfrm flipV="1">
            <a:off x="3087720" y="1988640"/>
            <a:ext cx="721440" cy="50400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3" name="Прямая со стрелкой 7"/>
          <p:cNvCxnSpPr>
            <a:stCxn id="294" idx="2"/>
            <a:endCxn id="290" idx="5"/>
          </p:cNvCxnSpPr>
          <p:nvPr/>
        </p:nvCxnSpPr>
        <p:spPr>
          <a:xfrm flipH="1" flipV="1">
            <a:off x="5248080" y="1988280"/>
            <a:ext cx="761040" cy="4057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cxnSp>
        <p:nvCxnSpPr>
          <p:cNvPr id="295" name="Прямая со стрелкой 12"/>
          <p:cNvCxnSpPr>
            <a:endCxn id="290" idx="3"/>
          </p:cNvCxnSpPr>
          <p:nvPr/>
        </p:nvCxnSpPr>
        <p:spPr>
          <a:xfrm flipH="1" flipV="1">
            <a:off x="4527000" y="3141000"/>
            <a:ext cx="6840" cy="322920"/>
          </a:xfrm>
          <a:prstGeom prst="straightConnector1">
            <a:avLst/>
          </a:prstGeom>
          <a:ln w="25560">
            <a:solidFill>
              <a:srgbClr val="a5c249"/>
            </a:solidFill>
            <a:miter/>
            <a:tailEnd len="med" type="arrow" w="med"/>
          </a:ln>
        </p:spPr>
      </p:cxnSp>
      <p:sp>
        <p:nvSpPr>
          <p:cNvPr id="296" name="TextBox 15"/>
          <p:cNvSpPr/>
          <p:nvPr/>
        </p:nvSpPr>
        <p:spPr>
          <a:xfrm>
            <a:off x="5003640" y="327960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Овал 26"/>
          <p:cNvSpPr/>
          <p:nvPr/>
        </p:nvSpPr>
        <p:spPr>
          <a:xfrm>
            <a:off x="6008760" y="1074600"/>
            <a:ext cx="280836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БЕЗВОЗМЕЗДНЫЕ ПОСТУПЛ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поступления в бюджет на безвозмездной и безвозвратной основе из областного бюджета (субсидии, субвенции), бюджета муниципального района(дотации),а также перечисления от физических и юридических лиц (кроме налоговых и неналоговых доходов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Овал 31"/>
          <p:cNvSpPr/>
          <p:nvPr/>
        </p:nvSpPr>
        <p:spPr>
          <a:xfrm>
            <a:off x="3129120" y="3463920"/>
            <a:ext cx="2808000" cy="263844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ffffff"/>
                </a:solidFill>
                <a:uFillTx/>
                <a:latin typeface="Constantia"/>
              </a:rPr>
              <a:t>НЕНАЛОГОВЫЕ ДОХОДЫ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ходы от использования муниципального  имущества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другие</a:t>
            </a:r>
            <a:r>
              <a:rPr b="0" lang="ru-RU" sz="1000" spc="-1" strike="noStrike">
                <a:solidFill>
                  <a:srgbClr val="ffffff"/>
                </a:solidFill>
                <a:latin typeface="Constantia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f6fc6"/>
            </a:gs>
            <a:gs pos="100000">
              <a:srgbClr val="dee5f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Заголовок 1" descr=""/>
          <p:cNvPicPr/>
          <p:nvPr/>
        </p:nvPicPr>
        <p:blipFill>
          <a:blip r:embed="rId1"/>
          <a:stretch/>
        </p:blipFill>
        <p:spPr>
          <a:xfrm>
            <a:off x="30240" y="-55440"/>
            <a:ext cx="904716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30</dc:creator>
  <dc:description/>
  <dc:language>en-US</dc:language>
  <cp:lastModifiedBy>Крупец</cp:lastModifiedBy>
  <dcterms:modified xsi:type="dcterms:W3CDTF">2020-12-18T07:22:12Z</dcterms:modified>
  <cp:revision>196</cp:revision>
  <dc:subject/>
  <dc:title>Презентация PowerPoint</dc:title>
</cp:coreProperties>
</file>