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F78-C598-4084-B956-E9EC582A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B2C-0E9D-405B-91C8-BD5A1B0F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DEB-3952-471E-B062-29934BAF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7F7-D785-4F9D-9D93-79AE0501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B01C-B79B-4482-9585-77F39FB3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5F7E-1FEC-490D-8AAB-8FEC6A69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D651-382E-4CE1-965E-12B0426C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0267-31FC-4754-B7F9-5E761A32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25B4-368C-42C5-9C2D-AEDD3CB2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44CC-6C41-4804-92C5-970053DE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7C8E-1543-495D-BEF9-4D25A975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313-E65B-487A-956B-CF790AF1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FEDD-6519-45B1-BF4A-FCE35E70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ED1B-6B9C-432A-828E-7DF6FCE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B1CD-14B1-4BAF-BEA9-BF34ED5B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9418-C0D3-4A12-A064-140DC40C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271D-7200-4022-832B-8932D35F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92DC-A082-464E-B085-A7541F88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D650-E906-4A69-9480-CAEEC7E7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9994-17C4-4406-8F95-DA8E5D1E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8899-AD27-447F-9FA5-866D4DB8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8365-1D45-4058-A478-4577AC2B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E9C-7511-4EBE-A6B2-5304B4D3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18D4-8494-4271-8DC3-BBA28B24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5DC2-F8EE-4945-A2F5-E94897C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ED1BB-13F3-4D1F-A156-BD24E937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8346-BF05-462C-9499-5D4D5E45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7CDA-FAF6-4BA0-9A1B-4D381650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4D70-290B-41A2-A0A0-5ED6B189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E64B-D32C-4D44-B32A-F93099E2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8D542-0047-4468-BE49-4CF238B1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DC68-9CBB-4B42-A0A7-AD55D3BF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463DB-670E-457C-B533-520EE4E3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848-0E2D-4F20-8213-47C83B5A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54F95-18F5-4D28-879B-61800D15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7F5E-7881-4A33-809C-4AB071FA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4E138-5D87-4968-859C-B4D85A87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64ADB-70AB-45B5-9B7B-06316887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B188-D3B3-4A88-830A-4DFA9D9E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CBA6-C884-40F4-8AD1-51118E9E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027BF-6B3E-4FB6-95EE-5766B0BD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F68EB-5F04-48AB-9AA0-2FD4CFDD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60C0C-A4AE-4CAF-8130-081D21E5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AF969-F388-4D52-BE33-7C27C3B7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BE3-961B-410B-8EC3-7E4325D2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8D222-ABDC-41DA-857B-F08FB971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7D220-02B8-467F-B41F-D6ECDABC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3763-6490-4AA4-92A2-967EC90C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375FB-B581-41DF-9CF7-BA6F9BA5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4A8D8-CF63-407D-94FC-E395BF6A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F3AAE-4B4C-457F-B831-0F0D5A2D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F0935-F449-4D04-86CC-E2BCBEFC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BF63-095B-4E8A-BF49-448F3594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1D7EB-3628-498F-8A8B-7F13342E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6DBCA-B5F2-4F0D-98B8-798674EE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FE6-1192-4FD9-A843-BE49B374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BE839-A946-4F0B-BFBD-DFEB4428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F51C-7628-4FB7-907C-7ACA5B49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EED24-5BAF-46EB-ABFF-9C2AEE36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8B694-5CE4-4307-BA9C-D3D3582E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0616B-C029-4471-9EC5-5FAF177A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00DA5-03D9-4F81-B2F4-AF685B38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9266F-80CD-4278-9E8A-5A3F619F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23B28-9E34-4D8B-9560-5EBDA8F6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1D5EB-C790-47F3-A604-B6E1D79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D1E8F-57BF-4F1F-820B-B924597D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DF3-26AA-4217-A233-6C541C05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337B6-B2FA-46BD-B391-489C43BF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B405-A688-4949-B131-70AB6258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FA1FB-5E73-48E3-849D-32D94065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65B83-E6D2-4D54-B633-37F80AF6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C161-090B-439D-8E31-6A8058B6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C75E3-57A0-4C28-B0B7-7279A1FF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01CA8-9E72-4426-9514-E4706D1F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A2997-1E3F-4212-B718-46FDC8EC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5AE03-F531-48E9-A39B-179D0F87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BFF62-A599-4C7B-89DF-921224DB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227-84A0-485A-906E-A76DCEC4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63742-4A36-465D-82E7-E54DD81B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3FAD-CBC5-4FD0-A8D6-54001FF0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A3E4E-6EE0-4712-9821-3D7818AC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5FF65-0925-4A14-A156-6B64E803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BE7AD-0EF8-4D32-9FB1-BCA1F06C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213-304B-4C75-AE64-B8B899EE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FF66-2F99-4495-A9F2-5C8687124B0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1ACC-A6E3-4C4C-89A0-7C2F2698CBB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53A2-857C-4107-B9D8-C297F90BFDD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D9E4-9F9B-4E0E-B286-207D812A318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E563-4DA7-4E13-BC65-746784AEFDA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0332-4B15-4042-8207-7E414375BF8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CCEF-22BA-45DC-B51F-B116A421211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5"/>
          <p:cNvSpPr txBox="1"/>
          <p:nvPr/>
        </p:nvSpPr>
        <p:spPr>
          <a:xfrm>
            <a:off x="179280" y="115920"/>
            <a:ext cx="885672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оект исполнения бюджета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ля граждан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ниципального образования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«Крупецкой сельсовет»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2019 год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5"/>
          <p:cNvSpPr/>
          <p:nvPr/>
        </p:nvSpPr>
        <p:spPr>
          <a:xfrm>
            <a:off x="928800" y="25560"/>
            <a:ext cx="79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19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"/>
          <p:cNvSpPr/>
          <p:nvPr/>
        </p:nvSpPr>
        <p:spPr>
          <a:xfrm>
            <a:off x="928800" y="1989000"/>
            <a:ext cx="781992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77,8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106200" y="11592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роект исполнения бюджета  муниципального образования «Крупецкой сельсовет» Дмитриевского района Курской области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1143000" y="1413000"/>
            <a:ext cx="764388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е Собрания депутатов Крупецкого сельсове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25 от 17 декабря 2018 года «О бюджете  муниципального образования «Крупецкой сельсовет» Дмитриевского района Курской области  на 2019 год и на плановый период 2020 и 2021 годов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Собрания депутатов Крупецкого сельсовета от 19.12.2019 года № 63 «О внесении изменений в решение Собрания депутатов Крупецкого сельсовета  № 25 от 19 декабря 2018 года «О бюджете муниципального образования «Крупецкой сельсовет» Дмитриевского района Курской области  на 2019 год и на плановый период 2020 и 2021 го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исполнения бюджета Крупец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Курской области за 201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57200" y="1000080"/>
          <a:ext cx="6786720" cy="2857680"/>
        </p:xfrm>
        <a:graphic>
          <a:graphicData uri="http://schemas.openxmlformats.org/drawingml/2006/table">
            <a:tbl>
              <a:tblPr/>
              <a:tblGrid>
                <a:gridCol w="3749760"/>
                <a:gridCol w="303696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5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9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3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042920" y="798480"/>
          <a:ext cx="7607520" cy="602604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19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019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8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8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1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8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8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564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7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7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352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 использования имущества, находящегося в государственной и 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6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6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8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5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95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95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3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22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22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4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4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врат остатков субсидий, субвенций и иных межбюджетных трансфер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11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1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19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85840" y="857160"/>
          <a:ext cx="8267760" cy="521172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9080"/>
                <a:gridCol w="936360"/>
                <a:gridCol w="93528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9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9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302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0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5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ервичных мер пожарной безопасности в границах населенных пунктов муниципальных образ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214200" y="214200"/>
          <a:ext cx="8245440" cy="444024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9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9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ad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5"/>
          <p:cNvSpPr/>
          <p:nvPr/>
        </p:nvSpPr>
        <p:spPr>
          <a:xfrm>
            <a:off x="1071720" y="1260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Диаграмма 3" descr=""/>
          <p:cNvPicPr/>
          <p:nvPr/>
        </p:nvPicPr>
        <p:blipFill>
          <a:blip r:embed="rId1"/>
          <a:stretch/>
        </p:blipFill>
        <p:spPr>
          <a:xfrm>
            <a:off x="504720" y="1000080"/>
            <a:ext cx="8543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5"/>
          <p:cNvSpPr/>
          <p:nvPr/>
        </p:nvSpPr>
        <p:spPr>
          <a:xfrm>
            <a:off x="1071720" y="2556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19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1581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лок-схема: альтернативный процесс 4"/>
          <p:cNvSpPr/>
          <p:nvPr/>
        </p:nvSpPr>
        <p:spPr>
          <a:xfrm>
            <a:off x="857160" y="2538360"/>
            <a:ext cx="300060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49,8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лок-схема: альтернативный процесс 7"/>
          <p:cNvSpPr/>
          <p:nvPr/>
        </p:nvSpPr>
        <p:spPr>
          <a:xfrm>
            <a:off x="5435640" y="2492280"/>
            <a:ext cx="306540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031,7 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процесс 5"/>
          <p:cNvSpPr/>
          <p:nvPr/>
        </p:nvSpPr>
        <p:spPr>
          <a:xfrm>
            <a:off x="1357200" y="4508640"/>
            <a:ext cx="214308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(549,8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Прямая со стрелкой 6"/>
          <p:cNvCxnSpPr>
            <a:stCxn id="336" idx="3"/>
            <a:endCxn id="337" idx="0"/>
          </p:cNvCxnSpPr>
          <p:nvPr/>
        </p:nvCxnSpPr>
        <p:spPr>
          <a:xfrm flipH="1">
            <a:off x="2356560" y="2319480"/>
            <a:ext cx="23724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1" name="Прямая со стрелкой 14"/>
          <p:cNvCxnSpPr>
            <a:stCxn id="336" idx="4"/>
            <a:endCxn id="338" idx="0"/>
          </p:cNvCxnSpPr>
          <p:nvPr/>
        </p:nvCxnSpPr>
        <p:spPr>
          <a:xfrm flipV="1">
            <a:off x="4716360" y="2491560"/>
            <a:ext cx="22536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3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Крупец</cp:lastModifiedBy>
  <dcterms:modified xsi:type="dcterms:W3CDTF">2021-02-18T06:41:59Z</dcterms:modified>
  <cp:revision>39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