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8847-B099-4971-AD75-EAA8B49C4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609D1-6FE1-4D6D-8C20-2BEDEE9A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9BE-FABF-4C28-B841-A6E7D533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D59E-51A0-44ED-B6E4-97732D8C2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646C-B6D4-4026-B215-8D029D28A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BCFBA-C3A3-45E5-A164-BD39831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BC0CA-CCE9-4B25-B8DF-435105ED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E73F-4252-4A44-9344-711D98916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DBC1-BD2E-4BE8-BEC1-45B46124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76B14-BD04-4186-A0DD-12C65117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FD94F-58B8-49A1-AA12-3BE5FD6B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3BB-2EBC-439E-AD1A-830B6AEA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0AFC7-F93C-41BE-8087-01F928D1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2724E-0CEB-4FB8-8EF1-52F3C740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775A-DF96-4126-9A91-31BE45CF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C05E9-D976-46D5-8CD4-06DCD4E00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10575-EA07-42F0-8A3E-2926E757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D003C-AEFD-4DF9-97C2-A983E9E4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9D72-6371-4847-96A1-1A027B21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01C45-F21D-4366-9C1A-571580E3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5A550-88DD-48F4-A665-C88B9F846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5EE54-BC49-47F9-A0AC-8793D9498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2784-B359-47E3-AD0C-2C6C9B7E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4A71E-A440-464C-AC40-1A6C0AF5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7156-2147-4DB0-A2AB-BE79F156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0B270-3591-46D1-ACE1-6667D04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16B6-F201-4C2B-885C-3570E66A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A9713E-DEC0-4EC4-9EFA-D6032788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BAC88-7912-4CBC-9A70-456EAD27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63905-B258-44BA-A6A0-C782100ED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BB7E6-799C-4F4E-A8D5-A20B0EDB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591C1-C047-44EB-9FD9-7A62BCAF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16B89-D8D5-40E2-9462-36329539B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1EC4-5530-4524-A214-EBDC4FE5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8B235-2EB3-4E4A-BED2-FD55A963F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2762C-B322-4433-9A04-C77780553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FAEA6-FB35-45D2-B6EB-984E8EB71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2CCCD-1549-4EE9-826A-5598A993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2E3A4-A4CC-4721-B5B1-A05C6729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4DDE4-11F9-4252-A637-FF1E4B6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CE92A-C5F9-4A50-B300-750D83BC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31AEE-99CE-4CA5-8F5F-1E8F065D7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6E01C-B554-476D-87EC-1E09D032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511E0-1750-495D-93FF-8E82B19E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0D8D-5A7B-4588-A23A-43D26BA4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6FFA7-D8D2-4F44-A294-FC081D30C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C8EA8-30C2-447D-AB16-75AD9923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347D5-262F-4C4E-97DE-7239720B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0C0BCB-090D-44AA-9D69-A29FE398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B9FC8-0C65-4416-B34B-684DBD3C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67346B-E455-4421-AA8A-8B275E8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80E98-1B22-43DB-ABE5-8F02B14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05748-0C6E-41DB-AB13-EB0012BB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6818-9A69-4759-BB92-0FFB0CECC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E73D1-1986-4E59-939D-D54FD09C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D24-8A16-41D7-8AE1-5DC23E968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B9AA6-8DDA-4658-894A-A017A28BD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A2320A-1C8E-47F6-816D-2E6007740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CAFA7-E10B-43C5-8FC5-CDFA3ED92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6CC2B-00A0-4B7F-A9E4-4C2DE1DF8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612BC-3C42-4361-9440-D90191EA4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4B2EB-D3FD-43C4-BA46-8B748499A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EE9D-2E6B-4A10-A664-8D7DDBD03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CE5A8D-C7D5-4678-BD61-1E761928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47F8C-DEE8-4802-951F-EC2FFBF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06BA8-98EF-4C9D-BBF4-8EB062AC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16BC-37A7-4FB7-AC80-9B151B82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6D8BFB-C788-4E3F-B408-89CF9EDF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65A97-95A9-4FC9-B2DB-81F61FDDF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4B28-0174-46F4-96E6-8F6D0FE6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12F31-591D-4F6F-9DD6-7564390E1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4B0E8-0B05-4DEA-BE21-92EAFD8C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77329-4FF7-4EEA-9F3A-549CD2E0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964EA9-CADC-4E78-BCDE-0AD8950F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BAB80-6800-4CCB-B8E5-D283F65C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B6B24-D630-402C-9FD7-76E29D34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96AAB-D6E5-4101-8F84-D50D445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5888-F415-4A14-946A-05F699CF3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001DC-CCCC-407E-BE11-D79A48194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0E393-6530-4936-B38C-74C98622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419DE8-A303-47B7-874E-C20989D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0C287-66DB-456F-B5D9-5ED85EB0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31FAA-7CC8-4BE4-869B-223E7D2E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80C2-C731-4AE4-80B4-08BE1857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272E-F36E-4360-8AA4-729FED95EB4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32A7-8D03-4FD0-8BE2-2968274C89A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1A29-B112-4D41-A1A2-811908522D22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9E3D-9031-4485-A8E2-00ABC011F7D7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FDEC3-8574-4DD4-A980-2CBA0FDFC41F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F4BB-2DAF-4C78-9EC5-64DAA176E6D0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E63DA-5800-4CFC-8A13-49C040362481}" type="slidenum">
              <a:rPr b="0" lang="ru-RU" sz="1200" spc="-1" strike="noStrike">
                <a:solidFill>
                  <a:srgbClr val="b5a78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WordArt 5"/>
          <p:cNvSpPr txBox="1"/>
          <p:nvPr/>
        </p:nvSpPr>
        <p:spPr>
          <a:xfrm>
            <a:off x="179280" y="115920"/>
            <a:ext cx="8856720" cy="65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полнение бюджета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ля граждан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ниципального образования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«Крупецкой сельсовет» 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217335"/>
                  </a:solidFill>
                  <a:miter/>
                </a:ln>
                <a:solidFill>
                  <a:srgbClr val="713204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2020 год</a:t>
            </a: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1" strike="noStrike">
              <a:ln w="9360">
                <a:solidFill>
                  <a:srgbClr val="217335"/>
                </a:solidFill>
                <a:miter/>
              </a:ln>
              <a:solidFill>
                <a:srgbClr val="713204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Прямоугольник 5"/>
          <p:cNvSpPr/>
          <p:nvPr/>
        </p:nvSpPr>
        <p:spPr>
          <a:xfrm>
            <a:off x="928800" y="25560"/>
            <a:ext cx="794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поселения за 2020 год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Овал 3"/>
          <p:cNvSpPr/>
          <p:nvPr/>
        </p:nvSpPr>
        <p:spPr>
          <a:xfrm>
            <a:off x="928800" y="1989000"/>
            <a:ext cx="7819920" cy="237672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  <a:ea typeface="Times New Roman"/>
              </a:rPr>
              <a:t>Национальная обо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(расходы по субвенциям на осуществление первичного воинского учета на территориях, где отсутствуют военные комиссариа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  <a:ea typeface="Times New Roman"/>
              </a:rPr>
              <a:t>86,8 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Прямоугольник 3"/>
          <p:cNvSpPr/>
          <p:nvPr/>
        </p:nvSpPr>
        <p:spPr>
          <a:xfrm>
            <a:off x="106200" y="115920"/>
            <a:ext cx="903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Исполнение бюджета  муниципального образования «Крупецкой сельсовет» Дмитриевского райо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  <a:ea typeface="Times New Roman"/>
              </a:rPr>
              <a:t>Курской области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Прямоугольник 4"/>
          <p:cNvSpPr/>
          <p:nvPr/>
        </p:nvSpPr>
        <p:spPr>
          <a:xfrm>
            <a:off x="1143000" y="1413000"/>
            <a:ext cx="7643880" cy="44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формация подготовлена на основа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шение Собрания депутатов Крупецкого сельсовета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61 от 17 декабря 2019 года «О бюджете  муниципального образования «Крупецкой сельсовет» Дмитриевского района Курской области  на 2020 год и на плановый период 2021 и 2022 годов»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Собрания депутатов Крупецкого сельсовета от 17.12.2020 года № 95 «О внесении изменений в решение Собрания депутатов Крупецкого сельсовета  № 61 от 17 декабря 2019 года «О бюджете муниципального образования «Крупецкой сельсовет» Дмитриевского района Курской области  на 2020 год и на плановый период 2021 и 2022 годов»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нансовая отчетность о кассовом исполнении бюджета за 2020 го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3"/>
          <p:cNvSpPr/>
          <p:nvPr/>
        </p:nvSpPr>
        <p:spPr>
          <a:xfrm>
            <a:off x="179280" y="44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сновные параметры бюджета Крупецкого сельсове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Дмитриевского района Курской области за 2020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1357200" y="1000080"/>
          <a:ext cx="6786720" cy="2857680"/>
        </p:xfrm>
        <a:graphic>
          <a:graphicData uri="http://schemas.openxmlformats.org/drawingml/2006/table">
            <a:tbl>
              <a:tblPr/>
              <a:tblGrid>
                <a:gridCol w="3749760"/>
                <a:gridCol w="3036960"/>
              </a:tblGrid>
              <a:tr h="66708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2020 год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</a:tr>
              <a:tr h="6667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Доходы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35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Расход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3,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  <a:tr h="7621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500" spc="-1" strike="noStrike">
                          <a:solidFill>
                            <a:srgbClr val="fcbb8b"/>
                          </a:solidFill>
                          <a:latin typeface="Times New Roman"/>
                          <a:ea typeface="Times New Roman"/>
                        </a:rPr>
                        <a:t>Профици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88c5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2,9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d7e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Прямоугольник 5"/>
          <p:cNvSpPr/>
          <p:nvPr/>
        </p:nvSpPr>
        <p:spPr>
          <a:xfrm>
            <a:off x="108000" y="260280"/>
            <a:ext cx="89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доходам за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4" name=""/>
          <p:cNvGraphicFramePr/>
          <p:nvPr/>
        </p:nvGraphicFramePr>
        <p:xfrm>
          <a:off x="1042920" y="798480"/>
          <a:ext cx="7607520" cy="6060960"/>
        </p:xfrm>
        <a:graphic>
          <a:graphicData uri="http://schemas.openxmlformats.org/drawingml/2006/table">
            <a:tbl>
              <a:tblPr/>
              <a:tblGrid>
                <a:gridCol w="5189760"/>
                <a:gridCol w="1266840"/>
                <a:gridCol w="1150920"/>
              </a:tblGrid>
              <a:tr h="627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именование дохо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точненный план на 2020г.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2020год, тыс.рубле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7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7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ДОХОДЫ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2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2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05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ЫЙ СЕЛЬСКОХОЗЯЙСТВЕН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ЛОГ НА ИМУЩЕСТВО ФИЗИЧЕСКИХ ЛИЦ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3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ЕМЕЛЬНЫЙ НАЛО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9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1564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налоговые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7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37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4352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 использования имущества, находящегося в государственной и  муниципальной собственност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11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38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оказания платных услу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32076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ходы от продажи имуществ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52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7ddde"/>
                    </a:solidFill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79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2794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та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6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86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6504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сидии бюджетам бюджетной системы Российской федерации (межбюджетные  трансферты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417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5568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бвенции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ые межбюджетные трансфер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32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чие  безвозмездные поступл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10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зврат остатков субсидий, субвенций и иных межбюджетных трансфер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30120"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СЕГО ДОХ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5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3f3f3f"/>
                          </a:solidFill>
                          <a:latin typeface="Times New Roman"/>
                          <a:ea typeface="Times New Roman"/>
                        </a:rPr>
                        <a:t>553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Прямоугольник 3"/>
          <p:cNvGrpSpPr/>
          <p:nvPr/>
        </p:nvGrpSpPr>
        <p:grpSpPr>
          <a:xfrm>
            <a:off x="-128520" y="23760"/>
            <a:ext cx="9405720" cy="933480"/>
            <a:chOff x="-128520" y="23760"/>
            <a:chExt cx="9405720" cy="933480"/>
          </a:xfrm>
        </p:grpSpPr>
        <p:pic>
          <p:nvPicPr>
            <p:cNvPr id="3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-128520" y="23760"/>
              <a:ext cx="9405720" cy="93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112680" y="260280"/>
              <a:ext cx="892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сновные направления по доходам за  2020 го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8" name="Диаграмма 3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681960"/>
          </a:xfrm>
          <a:prstGeom prst="rect">
            <a:avLst/>
          </a:prstGeom>
          <a:ln w="0">
            <a:noFill/>
          </a:ln>
        </p:spPr>
      </p:pic>
      <p:pic>
        <p:nvPicPr>
          <p:cNvPr id="329" name="Прямая со стрелкой 3" descr=""/>
          <p:cNvPicPr/>
          <p:nvPr/>
        </p:nvPicPr>
        <p:blipFill>
          <a:blip r:embed="rId3"/>
          <a:stretch/>
        </p:blipFill>
        <p:spPr>
          <a:xfrm>
            <a:off x="4627440" y="4950000"/>
            <a:ext cx="49392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3"/>
          <p:cNvSpPr/>
          <p:nvPr/>
        </p:nvSpPr>
        <p:spPr>
          <a:xfrm>
            <a:off x="250920" y="3524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ение бюджета по расходам 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85840" y="857160"/>
          <a:ext cx="8267760" cy="5211720"/>
        </p:xfrm>
        <a:graphic>
          <a:graphicData uri="http://schemas.openxmlformats.org/drawingml/2006/table">
            <a:tbl>
              <a:tblPr/>
              <a:tblGrid>
                <a:gridCol w="5316480"/>
                <a:gridCol w="431640"/>
                <a:gridCol w="358920"/>
                <a:gridCol w="289080"/>
                <a:gridCol w="936360"/>
                <a:gridCol w="935280"/>
              </a:tblGrid>
              <a:tr h="113976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.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8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2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3654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высшего должностного лица субъекта Российской Федерации и муниципального образ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9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62388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4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302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финансовых, налоговых и таможенных органов и органов финансового (финансово-бюджетного) надзо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ерв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8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84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билизационная  и вневойсковая подготов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350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40500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первичных мер пожарной безопасности в границах населенных пунктов муниципальных образ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40464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2" name=""/>
          <p:cNvGraphicFramePr/>
          <p:nvPr/>
        </p:nvGraphicFramePr>
        <p:xfrm>
          <a:off x="214200" y="214200"/>
          <a:ext cx="8245440" cy="4440240"/>
        </p:xfrm>
        <a:graphic>
          <a:graphicData uri="http://schemas.openxmlformats.org/drawingml/2006/table">
            <a:tbl>
              <a:tblPr/>
              <a:tblGrid>
                <a:gridCol w="4929480"/>
                <a:gridCol w="571320"/>
                <a:gridCol w="357120"/>
                <a:gridCol w="428760"/>
                <a:gridCol w="1023840"/>
                <a:gridCol w="934920"/>
              </a:tblGrid>
              <a:tr h="1096920"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точненный план на 2020г.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ктическое исполнение за  2020 год, тыс. руб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292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ругие вопросы в области национальной эконом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ad7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лагоустро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7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38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деж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, кинематография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1cfd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cfc6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74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храна семьи и дет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232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d7e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ая культур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0bfc2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eaeb"/>
                    </a:solidFill>
                  </a:tcPr>
                </a:tc>
              </a:tr>
              <a:tr h="291960">
                <a:tc>
                  <a:txBody>
                    <a:bodyPr lIns="60840" rIns="6084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2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  <a:tc>
                  <a:txBody>
                    <a:bodyPr lIns="60840" rIns="608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5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0840" marR="60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c8ba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5"/>
          <p:cNvSpPr/>
          <p:nvPr/>
        </p:nvSpPr>
        <p:spPr>
          <a:xfrm>
            <a:off x="1071720" y="1260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направления по расх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  2020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Диаграмма 3" descr=""/>
          <p:cNvPicPr/>
          <p:nvPr/>
        </p:nvPicPr>
        <p:blipFill>
          <a:blip r:embed="rId1"/>
          <a:stretch/>
        </p:blipFill>
        <p:spPr>
          <a:xfrm>
            <a:off x="504720" y="1000080"/>
            <a:ext cx="8543880" cy="479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5"/>
          <p:cNvSpPr/>
          <p:nvPr/>
        </p:nvSpPr>
        <p:spPr>
          <a:xfrm>
            <a:off x="1071720" y="25560"/>
            <a:ext cx="779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полнение бюджета  2020 года в разрезе функциональной классификации рас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Овал 3"/>
          <p:cNvSpPr/>
          <p:nvPr/>
        </p:nvSpPr>
        <p:spPr>
          <a:xfrm>
            <a:off x="1714680" y="1197000"/>
            <a:ext cx="6002280" cy="1314360"/>
          </a:xfrm>
          <a:prstGeom prst="ellipse">
            <a:avLst/>
          </a:prstGeom>
          <a:solidFill>
            <a:srgbClr val="35436a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rbel"/>
              </a:rPr>
              <a:t>Общегосударственные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(содержание органа местного самоуправл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rbel"/>
              </a:rPr>
              <a:t>1864,1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Блок-схема: альтернативный процесс 4"/>
          <p:cNvSpPr/>
          <p:nvPr/>
        </p:nvSpPr>
        <p:spPr>
          <a:xfrm>
            <a:off x="857160" y="2538360"/>
            <a:ext cx="3000600" cy="154296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высшего должностного лица субъекта Российской Федерации и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609,6тыс. рубле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Блок-схема: альтернативный процесс 7"/>
          <p:cNvSpPr/>
          <p:nvPr/>
        </p:nvSpPr>
        <p:spPr>
          <a:xfrm>
            <a:off x="5435640" y="2492280"/>
            <a:ext cx="3065400" cy="2202120"/>
          </a:xfrm>
          <a:prstGeom prst="flowChartAlternateProcess">
            <a:avLst/>
          </a:prstGeom>
          <a:solidFill>
            <a:srgbClr val="c6b07e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orbel"/>
              </a:rPr>
              <a:t>Функционирование Правительства Российской Федерации, высших исполнительных органов государственной власти субъектов Российской федерации, местных администрац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1254,5тыс. руб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Блок-схема: процесс 5"/>
          <p:cNvSpPr/>
          <p:nvPr/>
        </p:nvSpPr>
        <p:spPr>
          <a:xfrm>
            <a:off x="1357200" y="4508640"/>
            <a:ext cx="2143080" cy="969840"/>
          </a:xfrm>
          <a:prstGeom prst="flowChartProcess">
            <a:avLst/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Глава муниципального образов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orbel"/>
              </a:rPr>
              <a:t>(609,6тыс. рублей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6"/>
          <p:cNvCxnSpPr>
            <a:stCxn id="336" idx="3"/>
            <a:endCxn id="337" idx="0"/>
          </p:cNvCxnSpPr>
          <p:nvPr/>
        </p:nvCxnSpPr>
        <p:spPr>
          <a:xfrm flipH="1">
            <a:off x="2356560" y="2319480"/>
            <a:ext cx="237240" cy="219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1" name="Прямая со стрелкой 14"/>
          <p:cNvCxnSpPr>
            <a:stCxn id="336" idx="4"/>
            <a:endCxn id="338" idx="0"/>
          </p:cNvCxnSpPr>
          <p:nvPr/>
        </p:nvCxnSpPr>
        <p:spPr>
          <a:xfrm flipV="1">
            <a:off x="4716360" y="2491560"/>
            <a:ext cx="2253600" cy="19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342" name="Прямая со стрелкой 33"/>
          <p:cNvCxnSpPr/>
          <p:nvPr/>
        </p:nvCxnSpPr>
        <p:spPr>
          <a:xfrm>
            <a:off x="324000" y="4941360"/>
            <a:ext cx="1944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43" name="Прямая соединительная линия 35"/>
          <p:cNvSpPr/>
          <p:nvPr/>
        </p:nvSpPr>
        <p:spPr>
          <a:xfrm>
            <a:off x="324000" y="4149720"/>
            <a:ext cx="0" cy="79200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09:03:10Z</dcterms:created>
  <dc:creator>М.О. Косоротова</dc:creator>
  <dc:description/>
  <dc:language>en-US</dc:language>
  <cp:lastModifiedBy>Крупец</cp:lastModifiedBy>
  <dcterms:modified xsi:type="dcterms:W3CDTF">2021-04-14T09:26:41Z</dcterms:modified>
  <cp:revision>39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