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2E9-EF81-4246-BB50-6DA3E040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457-55C9-4C3C-9862-4BDB6A25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A16-45A8-40CC-AFAF-09B54A21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05E-06CB-44AE-828A-50B0BF07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26C7-F0C9-49D2-B61E-F7A92D1F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15EE-395F-427B-9B74-253BCC1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E4DF-B6AB-44C6-8158-8282D304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2411-D0CC-4631-8BF8-17770E6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A4F4-9E6A-4FE3-A1F2-6A51096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D226-01A3-4305-850C-EE256181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47B-2111-489E-A1EE-9AD8B5B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7FB-5E1C-4E07-91E4-24F7FED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6240-9273-4C2C-9CC2-97E647C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5DC6-6487-4189-BDAC-629DC9DC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6B55-ACF0-4568-BE2F-11FD9FB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D986-2DF7-43DD-913E-7186F73B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495-83C8-443C-A5D5-A6FC0F78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9EAB-EF65-4C51-B36D-BD581FDE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D2F7-9109-4BCE-930C-B96D18E1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F1EA-3F2A-4527-9AB8-DFC3C5BB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9C59-9715-4080-9E3F-F7D6476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7A3D-A564-4CF8-B70A-D0FDA075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BE7-6804-488E-9F22-7742C26A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E2F3-57D7-4EAF-99C0-7ED27DD9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3700-83B5-46E7-8EB8-F27F7FE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1193-FC49-4BB3-96A2-FB86839B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172F-D751-4EE0-8CC8-28C6DE3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3F56-82BE-470A-8200-2CD024E7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980F-9FC3-4526-A991-015D653C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B04F-BCCE-4B7F-A4CD-8D8BD117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B526E-EC2F-4A9A-BA79-AA755331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F18D-305B-482C-939C-7CF5B331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F598-1A52-421C-BC78-49946812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CC3-A689-489B-9FB7-78A0D4D8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2A73-8C91-4557-ACFC-68DF6E63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3E44-492A-47C1-9DBD-513459B6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E70B-4FF8-4810-84B9-2EAB607B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C1C5-1334-4C94-BBA7-E263B65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59BE-58E6-4232-A8FE-B39CF6CE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A8AB-A808-4EF1-BA31-7273799C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A19E-C1F0-42BC-8F5D-327CF7C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DB75-2A37-4275-8BA5-09117483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93B0-2B29-4387-AF95-92594F43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FC4-C664-43BE-8FA1-18EDC081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880-6AF7-40A9-8C17-962B6D1A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A0E-5C8E-45DC-877C-99A2FAC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2D9-9340-4753-905B-8525645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92F-01B7-4DDF-A299-7221BF9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2BE-C7B7-4DF4-B0A1-32D1971C04A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4FFA-6FEA-4509-ADC8-EB00282F3C9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1737-FFEA-423A-91C9-FBD981705744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772F-91EA-4140-91CC-1F3A0D59C28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проекту решения Собрания депутатов Крупецкого сельсовета Дмитриевского района Курской области от _____2021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____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2 год и на плановый период 2023 и 2024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517680" y="-1006560"/>
            <a:ext cx="994752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2-2024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02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22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2 и 2024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06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1-11-17T09:52:56Z</dcterms:modified>
  <cp:revision>204</cp:revision>
  <dc:subject/>
  <dc:title>Презентация PowerPoint</dc:title>
</cp:coreProperties>
</file>