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E95-B573-49F2-B26D-87057356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61A-DE94-4C58-A60D-1B931359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398-5335-4DA3-BE44-1CBD35AA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286-8A4F-4274-BDDA-ABCBC43E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18BF-174D-440D-AACA-3A366BA8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0DC-0893-4563-8382-D0ADD0FF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438A-3126-48D2-9E8F-A4ADA1A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1724-3035-4D0D-8391-1D05C55F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231D-FDFC-4351-BB3D-9A68E059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DCD-9BCB-4290-B4E0-CF042F5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A63B-1447-4440-AE07-F3CD9BD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80F-1951-4222-B345-DF69CFC1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4A5C-87EF-4E7E-9D56-85E2834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779E-1157-4A2A-ADE1-6C96888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9C4-CDB4-4B6F-A30D-8375BAEE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7229-439F-40D9-ADFE-81D8C951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344-6941-4E00-BB25-03374539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1B59-0536-48E2-BE53-1BFC21E2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62E0-EAEF-4CE3-BF1B-33D9236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CB60-3716-4BF1-A4ED-864BAFEF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3D63-F5BE-4E2C-9FE3-2A01F5B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3054-822D-4AB0-9103-36AA833E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80D-6DFA-4CDA-87D5-86597498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A1CD-7B07-4103-8EDB-5DC40F58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1674-DCDF-47BD-972D-70166EA9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218D-E523-4707-855B-40158AD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CBD2-697E-4C28-9A34-E1F1A04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5E52-F72A-4100-9D1C-E31A209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21C3-09A4-46D9-A7A1-6812081F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FED1-F009-45B0-A160-A96CDBAE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61BF-760D-463F-B3EF-CB6FB7FA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E97E-282A-4359-9830-94FED587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DA7D-3320-4388-A9C5-5712359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BF8-01F4-4335-98D1-5216C991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6CEB-639B-4520-BBD4-412E074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82B1-E53D-4E41-8AA4-CB69805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0A79-3CE0-4E77-8653-E70AFA99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BBEFF-34FF-4660-B730-83BF4D0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5D3D-B48C-44B5-A47D-9416B50E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3320-69CC-4699-B6B6-D1D4618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4223-6D3F-4FA1-A932-4FF9F811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E40C-1948-453B-84A6-52084D62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2CD8-4711-4D59-AD93-3776B0B9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D66-31C5-47E0-A550-C24A7ED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BF2-EFF2-4B25-A654-EBD18A2C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A32-3FED-4C88-8D4E-209890B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B11-881A-4D08-8A9C-7A29F55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3C1-EEFF-4283-AF6C-FE72FB7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119-FBD2-4C83-83F1-4D3409C3C09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A14-2363-4F71-8AA8-94CC746C352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504-6FC6-429D-8F69-16646943874F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EA69-6E6C-4FB3-97AE-CD64522F6EB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06 декабря 2021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23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2 год и на плановый период 2023 и 2024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517680" y="-1006560"/>
            <a:ext cx="994752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2-2024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02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868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22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2 и 2024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1-12-10T12:03:40Z</dcterms:modified>
  <cp:revision>205</cp:revision>
  <dc:subject/>
  <dc:title>Презентация PowerPoint</dc:title>
</cp:coreProperties>
</file>