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962-54DD-4479-BCEC-98563902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129-9100-4257-9F51-05AB822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12A-E0FE-43B6-BE03-8B3580A5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89B-F93E-40DB-B881-2DFBC76A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EF7F-9E03-48EC-BEC9-13677C3A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9D02-43E6-44D3-90C5-2ED2C7F3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9224-D172-4EEE-9238-EBDC766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A728-2AC5-453C-BE3F-5BA8AFBA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3D9-195A-473A-BE29-805AB8C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D72D-93BD-4869-A1BC-A011EEB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19BC-32A1-424B-829D-9784A8A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D46-01F5-4BD9-A273-DD8DEA2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49D-26D0-43B2-9294-29FD34A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A21D-3311-4C2E-8866-D0EC45E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9C0-F9C1-4E7F-A3EB-9D33CB74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627-A258-4B88-8F52-EA14AF01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A1E-0AAD-45CC-A4A9-400E6F40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C114-36CF-4CDE-92BA-BDA2352D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47A9-16DA-4DAE-9714-43B92C40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AD4F-5513-4A22-8EA8-A28D9EB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60C9-2B42-432B-AF2E-4BBF474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12AE-B123-40B3-9814-66D176F7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377-522D-4663-A8A4-7A30A43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008E-E175-4588-848A-82D6D4D3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F4D9-4F72-42FF-868A-1C367FD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4D6F-AB14-4E11-B24A-D7B481EF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6522-607B-4E3B-9940-FEA2A7B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75E5-7966-45B3-A5C8-AFA8BB19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A44A-5F8B-49BC-A9C5-A43EC99E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0E26-CB31-476B-BA1D-82E15127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E454-D1FD-4304-B5DF-4DDDA665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1155-F66D-4858-9CFC-9394F98A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37DC-82BE-44D5-8B07-20EE822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BDD-D9F4-4762-9A6C-63CAC01A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D7D6-2D9B-49BC-97AF-3BFE9029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6BDC-DE05-4F9C-8BA8-8D48E15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A579-E836-48E3-8066-963CC884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669D-6662-4113-9E60-0D291FC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EC8D-7EF9-4A29-BEB6-1F853DF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9EB8-B4A8-46C2-A944-603AC32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B2CA-6326-4B5D-B16D-9F0281C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E36B-A7E6-4F1F-A150-6F8F4419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66DF-E2D7-425A-A38E-7E5B85CA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AE4-0901-4796-96DF-F636F11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A80-52DF-4143-84E6-6FC326ED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8D7-DF15-4182-A0E0-632D81F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318-F8F9-467A-843B-AE94240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6AE-9127-4674-9FC3-00027D6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4D8-DA42-4E29-9955-07CC16B30A0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FA0C-C075-4095-B3E6-6515DC73966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5D96-9BE6-4533-ACBD-B6B15F3149E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39A-8768-49BA-85FE-29A7333E5C5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 решению Собрания депутатов Крупецкого сельсовета Дмитриевского района Курской области от 08 декабря 2022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62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3 год и на плановый период 2024 и 2025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506520" y="-1006560"/>
            <a:ext cx="986976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83868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условно утвержденные 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 8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словно утвержденные 2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384804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2080"/>
            <a:ext cx="802332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3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4 и 2025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34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2-12-14T10:46:44Z</dcterms:modified>
  <cp:revision>212</cp:revision>
  <dc:subject/>
  <dc:title>Презентация PowerPoint</dc:title>
</cp:coreProperties>
</file>