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EE87-0CFF-42F0-97FC-751AAC23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7898-FABB-4517-9737-8A427483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E643-207F-46C3-AA96-E593F809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B1C7-3F91-4898-842F-486FFFE8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C2F3-4CC6-4EC0-BC23-6B2E923F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52DC-7459-4895-A8EA-C3C72C5D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565A-6727-47F9-8A5F-84808403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54D9-FD77-4F58-A98F-F2E33E87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1531-6AE5-4E21-8DC5-EB2B9037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75AB-7EAC-4DF1-869E-8B0E039E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4997-0134-44D4-A1A2-C96AEFCC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335D-B282-474B-8701-DCD32B14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4445-E413-442D-A7C6-AFB0207C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13D6-C874-4154-BCF9-4A6F91D1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CE02-0665-4A91-8D36-354382CF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CD34-2551-4089-AF4D-3437C446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894E-D006-41C5-9B5C-2CF1AD56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9A34C-E5BD-44B4-B029-DF5C3110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45BBC-0BE4-4FCC-8369-3FA187F1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A8074-EB85-4C71-A1E0-A41C625C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49D7D-FC30-4A1E-8431-54F1B7F4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9F8CF-AA02-4789-ABDA-7CE8C21D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277F-2B2D-4774-A7E9-935B4BC0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D0A46-DAC8-47CC-8357-B669CF38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6DAC6-1176-4D9B-A350-952A0E3D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4295E-D742-47F4-BCDC-EC36821B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278FC-4EF8-4EEA-A801-C9462E09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F27F9-CD51-47CD-AAA8-3BF03051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4656D-766B-4160-9A8A-8C25BFD2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C5D22-9388-4F32-A201-8635E1E0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53EC1-91E2-43EA-87E8-447A8BBA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7DDC9-6668-4903-90BD-4E68E76E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083A7-C65F-4BB0-A0E3-D698D4F8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C98-E733-4A28-9EA2-9640D465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483EF-3164-493F-B7C8-6DA906B2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7F221-9352-498A-9E1B-80671DD1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E541B-434A-4250-9756-452616BC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08CDD-BCB7-4A23-AC0B-C3D065BB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A0951-38AD-4925-B1FE-BFD4610B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DBD4C-27F0-4D7A-A4B7-D25AF896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E2BF0-F2C3-40EE-8788-91380722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FA48B-D9AF-4523-A41D-4B7ECB58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CA500-D8B6-4014-8B3C-0B0BDDB3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898A-71A7-4DA9-BA54-8EC3E7FA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94EE-9B02-4CA4-8CD9-8ED55968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C98B-F9F6-4685-8281-34C07E8D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4063-A5D7-432C-A9E1-EC3636F0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B748-380C-4D43-A1C5-FFE2AC1F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0D50-7101-4A07-BE8C-4B5EA42EA13E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F35E-2D54-431A-B76C-53FE1AE84DC3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48CB-C7AD-4A9F-B8D8-EE32447A2F9A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EB27-90B0-469B-9D86-DC3501A32783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19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Бюджет 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для граждан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 решению Собрания депутатов Крупецкого сельсовета Дмитриевского района Курской области от 17.12.2020г.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№ 94 «О бюджете муниципального образования «Крупецкой сельсовет» Дмитриевского района Курской области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 2021 год и на плановый период 2022 и 2023 годов»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17" descr="http://cs106.vk.me/v106555/5a/N6Hs0Brnc-g.jpg"/>
          <p:cNvPicPr/>
          <p:nvPr/>
        </p:nvPicPr>
        <p:blipFill>
          <a:blip r:embed="rId2"/>
          <a:stretch/>
        </p:blipFill>
        <p:spPr>
          <a:xfrm>
            <a:off x="566640" y="2419200"/>
            <a:ext cx="2652840" cy="1871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9" descr="https://img-fotki.yandex.ru/get/6201/55543982.e0/0_b9b7c_dc20353d_L"/>
          <p:cNvPicPr/>
          <p:nvPr/>
        </p:nvPicPr>
        <p:blipFill>
          <a:blip r:embed="rId3"/>
          <a:stretch/>
        </p:blipFill>
        <p:spPr>
          <a:xfrm>
            <a:off x="6224760" y="2206800"/>
            <a:ext cx="2151000" cy="1616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1" descr="http://cs403018.vk.me/v403018988/4228/4hyM1kjbv5M.jpg"/>
          <p:cNvPicPr/>
          <p:nvPr/>
        </p:nvPicPr>
        <p:blipFill>
          <a:blip r:embed="rId4"/>
          <a:stretch/>
        </p:blipFill>
        <p:spPr>
          <a:xfrm>
            <a:off x="3992400" y="328680"/>
            <a:ext cx="1092240" cy="1262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SAM_3608"/>
          <p:cNvPicPr/>
          <p:nvPr/>
        </p:nvPicPr>
        <p:blipFill>
          <a:blip r:embed="rId5"/>
          <a:stretch/>
        </p:blipFill>
        <p:spPr>
          <a:xfrm>
            <a:off x="6215040" y="2214720"/>
            <a:ext cx="2428920" cy="17143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09" name="Rectangle 1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6" descr="DSCF1639"/>
          <p:cNvPicPr/>
          <p:nvPr/>
        </p:nvPicPr>
        <p:blipFill>
          <a:blip r:embed="rId6"/>
          <a:stretch/>
        </p:blipFill>
        <p:spPr>
          <a:xfrm>
            <a:off x="3143160" y="214200"/>
            <a:ext cx="2857680" cy="20718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Заголовок 3" descr=""/>
          <p:cNvPicPr/>
          <p:nvPr/>
        </p:nvPicPr>
        <p:blipFill>
          <a:blip r:embed="rId1"/>
          <a:stretch/>
        </p:blipFill>
        <p:spPr>
          <a:xfrm>
            <a:off x="-231840" y="-1487520"/>
            <a:ext cx="9498240" cy="835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30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ктура расходов бюджета  муниципального образования «Крупецкой сельсовет» по разделам бюджетной 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755640" y="836640"/>
          <a:ext cx="7848720" cy="3936960"/>
        </p:xfrm>
        <a:graphic>
          <a:graphicData uri="http://schemas.openxmlformats.org/drawingml/2006/table">
            <a:tbl>
              <a:tblPr/>
              <a:tblGrid>
                <a:gridCol w="511200"/>
                <a:gridCol w="2376360"/>
                <a:gridCol w="1785960"/>
                <a:gridCol w="1643040"/>
                <a:gridCol w="153216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1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2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9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3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3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31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24000" y="549360"/>
          <a:ext cx="8351640" cy="4321080"/>
        </p:xfrm>
        <a:graphic>
          <a:graphicData uri="http://schemas.openxmlformats.org/drawingml/2006/table">
            <a:tbl>
              <a:tblPr/>
              <a:tblGrid>
                <a:gridCol w="3962160"/>
                <a:gridCol w="1500120"/>
                <a:gridCol w="1500480"/>
                <a:gridCol w="138888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Крупецкой сельсовет» на 2021-2023 г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Крупецкого сельсовета на 2021-2023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 граждан в муниципальном образовании «Крупецкой сельсовет» на 2021-2023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Крупецкой сельсовет» на 2021-2023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Крупецком сельсовете на 2021-2023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Text Box 2"/>
          <p:cNvGrpSpPr/>
          <p:nvPr/>
        </p:nvGrpSpPr>
        <p:grpSpPr>
          <a:xfrm>
            <a:off x="6480" y="-6480"/>
            <a:ext cx="9144000" cy="6169320"/>
            <a:chOff x="6480" y="-6480"/>
            <a:chExt cx="9144000" cy="6169320"/>
          </a:xfrm>
        </p:grpSpPr>
        <p:pic>
          <p:nvPicPr>
            <p:cNvPr id="32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-6480"/>
              <a:ext cx="914400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85840" y="417600"/>
          <a:ext cx="8318520" cy="2224080"/>
        </p:xfrm>
        <a:graphic>
          <a:graphicData uri="http://schemas.openxmlformats.org/drawingml/2006/table">
            <a:tbl>
              <a:tblPr/>
              <a:tblGrid>
                <a:gridCol w="3429000"/>
                <a:gridCol w="1928880"/>
                <a:gridCol w="1571400"/>
                <a:gridCol w="1389240"/>
              </a:tblGrid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Крупецком сельсовете на 2021-2023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2021-2023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Заголовок 1" descr=""/>
          <p:cNvPicPr/>
          <p:nvPr/>
        </p:nvPicPr>
        <p:blipFill>
          <a:blip r:embed="rId1"/>
          <a:stretch/>
        </p:blipFill>
        <p:spPr>
          <a:xfrm>
            <a:off x="706320" y="268200"/>
            <a:ext cx="8236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43040" y="1714680"/>
            <a:ext cx="6500880" cy="36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Спасибо, что посетили информационный ресурс «Бюджет для граждан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341280" y="1311120"/>
            <a:ext cx="7967520" cy="1413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51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Территория 66,48 кв.км.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: общая численность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2370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 трудоспособного возраста: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1280 человек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Дети до 18 лет: 354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Численность  пенсионеров: 768 человек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rcRect l="5893" t="0" r="5893" b="0"/>
          <a:stretch/>
        </p:blipFill>
        <p:spPr>
          <a:xfrm>
            <a:off x="5857920" y="2000160"/>
            <a:ext cx="28573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15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468360" y="1268280"/>
            <a:ext cx="806436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юджет муниципального образования «Крупецкой сельсовет» на 2021-2023 годы утвержден на три года, в соответствии с действующим законодательством. Проект бюджета рассматривается и обсуждается на публичных слушаниях среди населения. Подлежит опубликованию в газете «Дмитриевский вестник» и на сайте Администрации Крупецкого сельсовета. В течении года  производится уточнение бюджета муниципального образования «Крупецкой сельсовет»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Рисунок 21" descr="B:\мои док\разное\фото\IMG_1666.JPG"/>
          <p:cNvPicPr/>
          <p:nvPr/>
        </p:nvPicPr>
        <p:blipFill>
          <a:blip r:embed="rId2"/>
          <a:stretch/>
        </p:blipFill>
        <p:spPr>
          <a:xfrm>
            <a:off x="822240" y="2633760"/>
            <a:ext cx="3213360" cy="1809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PA180053"/>
          <p:cNvPicPr/>
          <p:nvPr/>
        </p:nvPicPr>
        <p:blipFill>
          <a:blip r:embed="rId3"/>
          <a:stretch/>
        </p:blipFill>
        <p:spPr>
          <a:xfrm>
            <a:off x="928800" y="2500200"/>
            <a:ext cx="3857400" cy="19288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27" name="Рисунок 15" descr="DSC01350.JPG"/>
          <p:cNvPicPr/>
          <p:nvPr/>
        </p:nvPicPr>
        <p:blipFill>
          <a:blip r:embed="rId4"/>
          <a:stretch/>
        </p:blipFill>
        <p:spPr>
          <a:xfrm>
            <a:off x="5357880" y="2500200"/>
            <a:ext cx="3143160" cy="20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2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3724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юджет –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3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юджет муниципального образования «Крупецкой сельсовет» составлен и утвержден сроком на три года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1042920" y="2084400"/>
            <a:ext cx="7491600" cy="68256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ая соединительная линия 5"/>
          <p:cNvSpPr/>
          <p:nvPr/>
        </p:nvSpPr>
        <p:spPr>
          <a:xfrm>
            <a:off x="4572000" y="2637000"/>
            <a:ext cx="0" cy="6476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ая соединительная линия 7"/>
          <p:cNvSpPr/>
          <p:nvPr/>
        </p:nvSpPr>
        <p:spPr>
          <a:xfrm>
            <a:off x="1332000" y="3284640"/>
            <a:ext cx="648000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1" name="Прямая со стрелкой 10"/>
          <p:cNvCxnSpPr/>
          <p:nvPr/>
        </p:nvCxnSpPr>
        <p:spPr>
          <a:xfrm>
            <a:off x="13442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2" name="Прямая со стрелкой 12"/>
          <p:cNvCxnSpPr/>
          <p:nvPr/>
        </p:nvCxnSpPr>
        <p:spPr>
          <a:xfrm>
            <a:off x="781164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53" name="Скругленный прямоугольник 13"/>
          <p:cNvSpPr/>
          <p:nvPr/>
        </p:nvSpPr>
        <p:spPr>
          <a:xfrm>
            <a:off x="444600" y="3867120"/>
            <a:ext cx="1800000" cy="1871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60">
                <a:moveTo>
                  <a:pt x="3600" y="0"/>
                </a:moveTo>
                <a:arcTo wR="3600" hR="3600" stAng="16200000" swAng="-5400000"/>
                <a:lnTo>
                  <a:pt x="0" y="18860"/>
                </a:lnTo>
                <a:arcTo wR="3600" hR="3600" stAng="10800000" swAng="-5400000"/>
                <a:lnTo>
                  <a:pt x="18000" y="2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Бюджетном послании Президе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оссий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Скругленный прямоугольник 23"/>
          <p:cNvSpPr/>
          <p:nvPr/>
        </p:nvSpPr>
        <p:spPr>
          <a:xfrm>
            <a:off x="2664000" y="3876840"/>
            <a:ext cx="1800000" cy="1873080"/>
          </a:xfrm>
          <a:custGeom>
            <a:avLst/>
            <a:gdLst>
              <a:gd name="textAreaLeft" fmla="*/ 93600 w 1800000"/>
              <a:gd name="textAreaRight" fmla="*/ 1706400 w 1800000"/>
              <a:gd name="textAreaTop" fmla="*/ 93600 h 1873080"/>
              <a:gd name="textAreaBottom" fmla="*/ 1779480 h 1873080"/>
            </a:gdLst>
            <a:ahLst/>
            <a:rect l="textAreaLeft" t="textAreaTop" r="textAreaRight" b="textAreaBottom"/>
            <a:pathLst>
              <a:path w="21600" h="22477">
                <a:moveTo>
                  <a:pt x="3842" y="0"/>
                </a:moveTo>
                <a:arcTo wR="3842" hR="3842" stAng="16200000" swAng="-5400000"/>
                <a:lnTo>
                  <a:pt x="0" y="18635"/>
                </a:lnTo>
                <a:arcTo wR="3842" hR="3842" stAng="10800000" swAng="-5400000"/>
                <a:lnTo>
                  <a:pt x="17758" y="22477"/>
                </a:lnTo>
                <a:arcTo wR="3842" hR="3842" stAng="5400000" swAng="-5400000"/>
                <a:lnTo>
                  <a:pt x="21600" y="3842"/>
                </a:lnTo>
                <a:arcTo wR="3842" hR="3842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огн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циально- экономического разви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Скругленный прямоугольник 24"/>
          <p:cNvSpPr/>
          <p:nvPr/>
        </p:nvSpPr>
        <p:spPr>
          <a:xfrm>
            <a:off x="475128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новных направлениях бюджетной и налоговой политики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Скругленный прямоугольник 31"/>
          <p:cNvSpPr/>
          <p:nvPr/>
        </p:nvSpPr>
        <p:spPr>
          <a:xfrm>
            <a:off x="691200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униципальных программах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7" name="Прямая со стрелкой 32"/>
          <p:cNvCxnSpPr/>
          <p:nvPr/>
        </p:nvCxnSpPr>
        <p:spPr>
          <a:xfrm>
            <a:off x="35636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8" name="Прямая со стрелкой 33"/>
          <p:cNvCxnSpPr/>
          <p:nvPr/>
        </p:nvCxnSpPr>
        <p:spPr>
          <a:xfrm>
            <a:off x="565128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Text Box 2"/>
          <p:cNvGrpSpPr/>
          <p:nvPr/>
        </p:nvGrpSpPr>
        <p:grpSpPr>
          <a:xfrm>
            <a:off x="-6480" y="-6480"/>
            <a:ext cx="9150480" cy="6169320"/>
            <a:chOff x="-6480" y="-6480"/>
            <a:chExt cx="9150480" cy="6169320"/>
          </a:xfrm>
        </p:grpSpPr>
        <p:pic>
          <p:nvPicPr>
            <p:cNvPr id="260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5480" y="1071360"/>
            <a:ext cx="8358120" cy="423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27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 муниципального образования «Крупецкой сельсовет» на 2021 год  и на плановый период 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2022 и 2023 годов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2033640"/>
                <a:gridCol w="2357280"/>
                <a:gridCol w="2000520"/>
                <a:gridCol w="188892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9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9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8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ходы бюджета муниципального образовани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«Крупецкой сельсовет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безвозмездные и безвозвратны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денежных средств в бюдж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доходы физических лиц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имущество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- друг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2" name="Прямая со стрелкой 5"/>
          <p:cNvCxnSpPr>
            <a:stCxn id="291" idx="6"/>
            <a:endCxn id="290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3" name="Прямая со стрелкой 7"/>
          <p:cNvCxnSpPr>
            <a:stCxn id="294" idx="2"/>
            <a:endCxn id="290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5" name="Прямая со стрелкой 12"/>
          <p:cNvCxnSpPr>
            <a:endCxn id="290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96" name="TextBox 15"/>
          <p:cNvSpPr/>
          <p:nvPr/>
        </p:nvSpPr>
        <p:spPr>
          <a:xfrm>
            <a:off x="5003640" y="3279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в бюджет на безвозмездной и безвозвратной основе из областного бюджета (субсидии, субвенции), бюджета муниципального района(дотации),а также перечисления от физических и юридических лиц (кроме налоговых и неналоговых доходов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ходы от использования муниципального 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ругие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30240" y="-55440"/>
            <a:ext cx="9047160" cy="69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Крупец</cp:lastModifiedBy>
  <dcterms:modified xsi:type="dcterms:W3CDTF">2020-12-18T07:22:12Z</dcterms:modified>
  <cp:revision>196</cp:revision>
  <dc:subject/>
  <dc:title>Презентация PowerPoint</dc:title>
</cp:coreProperties>
</file>