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F3D-4A18-4902-8AF5-D9776D3A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6D5-B54C-4786-97BE-22FBF8F1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2829-B0A2-4839-9774-8D67714F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1D5-77E9-4615-861E-85C4C61B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BA96-3139-4565-9861-66369F54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7409-5A0F-43F3-9A50-CD24A098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CF3F-F9D8-4B11-9D26-5484197A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ED02-7EB8-4B56-A3D9-93337D62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9106-03C7-4FA2-8A48-FA724EA4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3F5A-7114-412F-BCE6-CD573EF2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38BA-C76E-489A-91C9-8A712A7D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DB6-D0F3-4D35-AE3C-C86C6586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AFBB-8992-41D5-9272-E9EC3556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58DE-85AA-4F67-BC98-B476DD8F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A7F2-93EB-4D3F-B005-D115AAE9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4460-89BC-441F-A126-75CE898C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D1D0-6CE5-43F5-925B-7621F2E5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86F2C-5977-4666-942A-105E1DBE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7816-A24B-4DB9-B559-A1DCF530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0C0D2-C6FD-47A4-8808-8C3AEB77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870E5-D565-4DEA-A6A1-E784A79A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DD73-C7EC-4A4C-9896-6C3B5BF3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FFC-9B5B-4BA0-8590-B2835F47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4854B-8396-48CA-844C-FC596856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5DCEB-E15F-4BE3-9F85-3A92A9C4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94513-977D-4516-9D8C-FE401C2C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E148E-DAB2-49AA-A00B-74B952D3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65C14-F7D4-4B51-AA98-A17642E4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0BC2A-3CA8-4A62-9EF4-F9DCE8B2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148F-7565-4CCB-B85F-0700C360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2C57B-91C2-4D57-B754-50FB1143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B7EAE-1755-45B1-BDB5-7140271A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9934E-92D5-40A1-8201-9AD4E503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C1C-9F6D-4E08-BE97-14EE17ED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7D4DB-7B8A-4E77-98CF-5852EB7E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651CE-BF55-4F0B-8DA6-758B265D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A01ED-0839-4E4B-9647-B804ED9F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9890F-9077-43A9-9FEB-3323566F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B864C-5620-4A42-8C7E-A7D81B58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306F6-48ED-45A9-9671-E8A5943B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29805-A32D-446F-AEF6-A91BD1B6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BA8AF-9866-469F-A344-35A8F998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B619E-7CBB-4DE4-895D-6FA9BAD3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529-18BB-46B5-B04A-F5A93EED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60D-2336-402F-B838-6380323B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158-1C26-4F5F-9EFA-576C46CA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117-713C-4026-926A-713E13DF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ABF-A1D8-4374-9B7B-D1074F29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0B31-D414-4E9F-A04F-877D82BB5BBA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BF35-0DB2-409B-88E1-EE46983446DC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88CF-0CFF-4737-9883-A0B8E4C0B7C0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62B7-BB35-4AEB-867A-E6264373B711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решению Собрания депутатов Крупецкого сельсовета Дмитриевского района Курской области от 06 декабря 2021г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№ 123 «О бюджете муниципального образования «Крупецкой сельсовет» Дмитриевского района Ку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2022 год и на плановый период 2023 и 2024 годов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566640" y="2419200"/>
            <a:ext cx="265284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2214720"/>
            <a:ext cx="2428920" cy="1714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-517680" y="-1006560"/>
            <a:ext cx="9947520" cy="801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55640" y="836640"/>
          <a:ext cx="7848720" cy="393696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24000" y="549360"/>
          <a:ext cx="8351640" cy="4503600"/>
        </p:xfrm>
        <a:graphic>
          <a:graphicData uri="http://schemas.openxmlformats.org/drawingml/2006/table">
            <a:tbl>
              <a:tblPr/>
              <a:tblGrid>
                <a:gridCol w="3962160"/>
                <a:gridCol w="1500120"/>
                <a:gridCol w="1500480"/>
                <a:gridCol w="13888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Крупецкой сельсовет» на 2022-2024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Крупецкого сельсовета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 граждан в муниципальном образовании «Крупецкой сельсовет»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Крупецком сельсовете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5840" y="417600"/>
          <a:ext cx="8318520" cy="2224080"/>
        </p:xfrm>
        <a:graphic>
          <a:graphicData uri="http://schemas.openxmlformats.org/drawingml/2006/table">
            <a:tbl>
              <a:tblPr/>
              <a:tblGrid>
                <a:gridCol w="3429000"/>
                <a:gridCol w="1928880"/>
                <a:gridCol w="1571400"/>
                <a:gridCol w="13892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Крупецком сельсовете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023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198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280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5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768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 муниципального образования «Крупецкой сельсовет» на 2022-2024 годы формируется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7" name="Рисунок 15" descr="DSC01350.JPG"/>
          <p:cNvPicPr/>
          <p:nvPr/>
        </p:nvPicPr>
        <p:blipFill>
          <a:blip r:embed="rId4"/>
          <a:stretch/>
        </p:blipFill>
        <p:spPr>
          <a:xfrm>
            <a:off x="5357880" y="2500200"/>
            <a:ext cx="3143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3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60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35812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7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7868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 муниципального образования «Крупецкой сельсовет» на 2022 год  и на плановый период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2022 и 2024 годов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Прямая со стрелкой 5"/>
          <p:cNvCxnSpPr>
            <a:stCxn id="291" idx="6"/>
            <a:endCxn id="290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3" name="Прямая со стрелкой 7"/>
          <p:cNvCxnSpPr>
            <a:stCxn id="294" idx="2"/>
            <a:endCxn id="290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>
            <a:endCxn id="290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6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, межбюджетные трансферты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904068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Крупец</cp:lastModifiedBy>
  <dcterms:modified xsi:type="dcterms:W3CDTF">2021-12-10T12:03:40Z</dcterms:modified>
  <cp:revision>205</cp:revision>
  <dc:subject/>
  <dc:title>Презентация PowerPoint</dc:title>
</cp:coreProperties>
</file>