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D2A-21C9-4BDA-AED4-F1EE5AD3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522-E296-447F-B1BA-2F74C047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1CE-AF65-4182-8D99-26DEE5C1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E9A-A9CB-49E3-979D-06F033E0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026E-B921-46DA-8F6D-93F6676B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721E-BF97-4699-A9A2-ACA71C0C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D6E-160B-41E0-B1DD-A6923FB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3B8-900B-450D-B81A-58F73A56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29D5-19D3-4D93-B5E2-22CF56B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B1A8-7B24-4BEB-A315-3FBC4877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9619-69E5-44B0-BF5E-D28614E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2B8-F3E4-4EC5-A0FB-5857D0D8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CA33-259A-45DA-882D-89AB2E83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533-0B6B-4456-A34D-BF5E072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0EF4-6E52-42F8-85A3-4EA94834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BA6-E23C-4DCB-B1B8-FBE554CF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E99A-FC32-4EFE-A2D7-955C4DB4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5EE5-7952-4138-B210-7DBF7F46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E8F9-16B4-48A1-8306-B09819A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6F0C-8B41-458C-A09F-66E8E9C2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262A-386D-47FD-8CFA-0E63F49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6C44-1543-4650-9376-423595B5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0F5-070E-470E-8382-DF5D2377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B597-CB99-4082-95AC-58E1F078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CF41-980C-46C9-A9D7-B34E896C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35B6-4D82-4FD0-B84E-098B79C7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D3FA-E5BC-4A3D-9163-5503681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53EF-1779-415D-A009-48452409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3C8C-4079-4390-A761-C68DFEC3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FBFD-CA43-4A96-A497-5DB7FE9F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0741-E4FD-4C33-B796-49EF7DE6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3DDB1-DC61-4748-B2FF-7DDC95F3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A2D8-4D04-4B7E-B1F5-B8955AAB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D5B-E75D-4462-8EA4-8E5A9593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FB04-016A-4B5F-BAE0-93085926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4235F-6513-43EB-ADB4-F22D5FC9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65F25-9C3C-4390-A199-D940466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99FFC-3327-4FA3-9A5B-F3CDEFE1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A4F3-2BEF-420D-9809-1599BB55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EEEB-10A0-40A3-B370-683F0BA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FE90A-AE5A-4354-84BE-9DD656C3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3C18-FC76-4140-843B-4F83FD13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154D-DCA9-4B16-94E5-2947D918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B1B-E955-4635-9702-B0EB0AC5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0A5-B5D0-4415-96D1-367DDC3D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A53-4D74-4221-AFEE-1D46B26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AF2-0D42-44CF-8F7D-DF11FBBF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B23-7953-40B1-ACA0-EAAD7C11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8C70-1712-4EA8-B90A-1B1F44752CD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0E50-542A-425C-B4F0-0B0CC27462DF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DAE9-358C-40B6-BBBB-5E94C9044DF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2B7F-083B-49CE-87E7-2FC1EC7386D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«Отчет об  исполнении бюджета муниципального образования «Крупецкой сельсовет» Дмитриевского района Курск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за  2021 год и  плановый период 2022 и 2023 годов»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1-2023 годы утвержде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за 2021 год  и 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3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29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55640" y="836640"/>
          <a:ext cx="7848720" cy="3990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2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3-02-07T13:34:27Z</dcterms:modified>
  <cp:revision>197</cp:revision>
  <dc:subject/>
  <dc:title>Презентация PowerPoint</dc:title>
</cp:coreProperties>
</file>