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6B3-0E35-47D0-A63B-B3C1C584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5FB-B832-48E4-8C88-6C20765C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32B-7C8D-4BF0-A576-0BD7EB84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AF5-D3E7-4421-8195-EE9C978A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7B98-1EC2-4BDD-9F3E-19AFC93B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839C-CA58-451D-8223-E038644B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B6D7-5052-4900-9192-ED5EA1B0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CC9D-3DA3-41FC-9DDE-94322742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D993-4242-471A-8F3E-96E99ACD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8200-1BAB-4658-85CF-A62C0DAC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7281-2902-473F-91BB-FF08CE5E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056-73CC-40E2-A99B-D07E9BCC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11A9-BCE1-47C3-BB6E-717C3D39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4049-4299-4DBC-82D5-038FB6AA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F303-6429-4AAA-8BA9-C111AF88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584D-4514-4254-85DE-9DA122F3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3CA7-04A2-49C8-9F62-CDA62940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3F17-E6AB-40FC-A228-BA243E21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9DDA-CBFE-4F91-9E00-97C0E7A8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6B5C-9B16-4CA5-A761-416839DC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93FE3-3C1C-497B-8FE4-C0B308C2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3FEC-EBEB-45EE-A1CB-FE601ECA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196-F219-491E-8B37-5894609A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7994-D61C-4757-93A6-DD35F44B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8819-6497-4FB0-8031-CBA27181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83732-EF64-44A1-BF25-094944C0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FD1B-A898-49AF-BCF0-44344FD8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5B24-DE0C-4AD1-9BF9-DD64FF36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ADF6-8322-4204-9E44-6D100426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5AC66-0A8B-4CC9-B522-F109273F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806F-D27C-48CA-9BB6-C72266E9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92C43-5E18-4A86-8AF7-7DDD8A3F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46679-DCF8-4E61-BED0-952F5CE0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345-022C-4579-B060-922052BD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527EE-21BD-4B81-B4F3-8E38E74E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570E1-49E4-4170-A76A-D6547B6B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7905-1209-43AB-9059-620FDFA4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7070-3675-4BDD-9ACD-AA99C7C4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039B-2967-4870-A39F-D17DC79F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AF7A6-4CB2-46A3-B944-6CCCDA73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0141C-D7B5-4B48-926C-BD3805A3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76488-91A7-47B1-AC04-93249DB7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10A98-6107-4620-9162-A2582E15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E8D-8058-4AC2-BE18-7B2885F6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27E-2B72-4FD5-A4E4-6B45FF5C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41B-45B2-4057-A114-496F3FC9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99E-B331-4FF9-8057-0E2FDC9D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8D2-A56B-4DC6-AA87-0465001A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C9AA-64DD-40F2-A635-7F424DEE2707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379B-84A4-47AF-B76D-892EF0C90D72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878B-5C82-43C7-AE6B-04C01F36FB3E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C309-9690-4696-9015-C9251133AA2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  отчету «Об исполнении бюджета муниципального образования «Крупецкой сельсовет» Дмитриевского района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а 2023 год и на плановый период 2024 и 2025 годов»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506520" y="-1006560"/>
            <a:ext cx="9869760" cy="80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84012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7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условно утвержденные 10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7, 8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условно утвержденные 2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384804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циальная поддержка  граждан  Крупецкого сельсовета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беспечение доступным и комфортным жильём и коммунальными услугами  граждан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азвитие муниципальной службы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рофилактика правонарушений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Защита населения и территории от чрезвычайных ситуаций, обеспечение пожарной безопасности и безопасности людей на водных объектах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023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198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ект бюджета муниципального образования «Крупецкой сельсовет» на 2022-2024 годы формируется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характеристики проекта бюджета муниципального образования «Крупецкой сельсовет» на 2023 год  и на плановый период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024 и 2025 годов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7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, межбюджетные трансферты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89852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24-03-14T11:58:57Z</dcterms:modified>
  <cp:revision>215</cp:revision>
  <dc:subject/>
  <dc:title>Презентация PowerPoint</dc:title>
</cp:coreProperties>
</file>