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A43C-1B33-48A8-B623-9EC4C5D0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F2D9-918D-44A5-8E09-874CAABC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9BC9-BD30-406E-8870-A7BC3705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611A-47DF-42A0-BA28-BAFC8AB2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8EAC-11A9-4896-A3B4-49BC91CE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D7B9-53B2-4CAA-9047-43CF7A36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95E8-2ED1-494A-9082-7733701F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75B6-0854-4F4D-8BFA-477AAAA5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B812-94D6-4BDB-93D0-873234FD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16FC-0CD8-4C29-954E-2C73ADE2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E440-5D26-427F-990E-1ECF6792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D956-3ABC-437D-B205-D7E5234D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8231-AC9B-4CE3-9161-59E80ADA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1B9A-6AC8-40CC-AC17-979C923B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C646-D3B7-43D4-A9DC-58E84735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916F-DBC7-428B-ADE9-7C1D5C65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D187-5582-4F8D-A738-BD778ECB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3EE24-2653-4F91-A3CB-95FCE2AD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A453E-ABCA-4495-9F20-1494D717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33404-2723-4D98-A0A6-B33CFC13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369F7-78A3-4C4C-9BB9-D3399BCE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9A900-042D-4D3B-8ADD-5F06A325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E80F-AC00-42F8-A9F5-EFF973C0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8D6F6-0752-447F-B7C5-C41106CE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DADB1-C0AA-41EA-B364-5451990A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9C7F6-0277-4A8D-A3AC-6C09C222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315A7-F150-49B6-A2D4-FC65C186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5465F-F768-4C17-83F5-B4417E5A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B6D50-57E7-4FEC-8BBF-0C920BCE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F6D95-8B9F-4978-99CE-159A5A25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20DE7-CC8A-46C2-AFAE-6061D712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B0A20-F38F-4186-8BA6-0A654770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B81DD-273F-4ADD-AF58-0E51CFD9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096-369E-4F33-A175-062FD238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3C501-D52A-4E2F-B5E8-E591F02C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41B97-8AFD-46F7-8B1E-C7B072E4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5BF2A-0544-4C9F-BAC7-5113653E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4C518-9EA9-44D0-A46E-0474AD91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6ED6F-69BA-43BF-83EB-D5653DBF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755FD-42D7-4EA7-A5C2-9E91DA4A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54E15-91F6-4566-BC9A-A93A0D50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C6E9A-7769-4CEA-9CC9-28A1659E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B8DFE-515A-481F-9415-33A237D9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F748-F3B9-47A7-900D-1D366B91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CAE2-D407-42E4-9FC6-9F44D200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C10-3C26-4E59-9E52-3B08C464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047-FB85-4D1D-996C-77736BE3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1365-F6D1-4263-AD65-7C31E95B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5E32-71F1-4FD5-8A53-E6BB1A47279B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A015-362B-44E6-9D42-66B17E5CB790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AD98-F8BC-4C0B-8D53-3841C53D16FD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5630-D7B7-4861-8489-B0447FAF2D92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353880" y="133200"/>
            <a:ext cx="9150480" cy="6170760"/>
            <a:chOff x="353880" y="133200"/>
            <a:chExt cx="9150480" cy="61707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353880" y="133200"/>
              <a:ext cx="9150480" cy="617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57120" y="142920"/>
              <a:ext cx="913788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Бюджет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ля граждан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 решению Собрания депутатов Крупецкого сельсовета Дмитриевского района Курской области от 12 апреля 2023г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№ 179 «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б исполнении бюджета муниципального образования  «Крупецкой  сельсовет» Дмитриевского района Курской области за 2022 год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17" descr="http://cs106.vk.me/v106555/5a/N6Hs0Brnc-g.jpg"/>
          <p:cNvPicPr/>
          <p:nvPr/>
        </p:nvPicPr>
        <p:blipFill>
          <a:blip r:embed="rId2"/>
          <a:stretch/>
        </p:blipFill>
        <p:spPr>
          <a:xfrm>
            <a:off x="208080" y="420840"/>
            <a:ext cx="2657520" cy="1871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https://img-fotki.yandex.ru/get/6201/55543982.e0/0_b9b7c_dc20353d_L"/>
          <p:cNvPicPr/>
          <p:nvPr/>
        </p:nvPicPr>
        <p:blipFill>
          <a:blip r:embed="rId3"/>
          <a:stretch/>
        </p:blipFill>
        <p:spPr>
          <a:xfrm>
            <a:off x="3565440" y="2352600"/>
            <a:ext cx="2152800" cy="1616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1" descr="http://cs403018.vk.me/v403018988/4228/4hyM1kjbv5M.jpg"/>
          <p:cNvPicPr/>
          <p:nvPr/>
        </p:nvPicPr>
        <p:blipFill>
          <a:blip r:embed="rId4"/>
          <a:stretch/>
        </p:blipFill>
        <p:spPr>
          <a:xfrm>
            <a:off x="3992400" y="328680"/>
            <a:ext cx="1092240" cy="1262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SAM_3608"/>
          <p:cNvPicPr/>
          <p:nvPr/>
        </p:nvPicPr>
        <p:blipFill>
          <a:blip r:embed="rId5"/>
          <a:stretch/>
        </p:blipFill>
        <p:spPr>
          <a:xfrm>
            <a:off x="6215040" y="500040"/>
            <a:ext cx="2428920" cy="17146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9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6" descr="DSCF1639"/>
          <p:cNvPicPr/>
          <p:nvPr/>
        </p:nvPicPr>
        <p:blipFill>
          <a:blip r:embed="rId6"/>
          <a:stretch/>
        </p:blipFill>
        <p:spPr>
          <a:xfrm>
            <a:off x="3143160" y="214200"/>
            <a:ext cx="2857680" cy="20718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3" descr=""/>
          <p:cNvPicPr/>
          <p:nvPr/>
        </p:nvPicPr>
        <p:blipFill>
          <a:blip r:embed="rId1"/>
          <a:stretch/>
        </p:blipFill>
        <p:spPr>
          <a:xfrm>
            <a:off x="-517680" y="-1006560"/>
            <a:ext cx="9966600" cy="801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0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а расходов бюджета  муниципального образования «Крупецкой сельсовет» по разделам бюджетной 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755640" y="836640"/>
          <a:ext cx="7848720" cy="3936960"/>
        </p:xfrm>
        <a:graphic>
          <a:graphicData uri="http://schemas.openxmlformats.org/drawingml/2006/table">
            <a:tbl>
              <a:tblPr/>
              <a:tblGrid>
                <a:gridCol w="511200"/>
                <a:gridCol w="2376360"/>
                <a:gridCol w="1785960"/>
                <a:gridCol w="1643040"/>
                <a:gridCol w="153216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4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1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324000" y="549360"/>
          <a:ext cx="8351640" cy="4503600"/>
        </p:xfrm>
        <a:graphic>
          <a:graphicData uri="http://schemas.openxmlformats.org/drawingml/2006/table">
            <a:tbl>
              <a:tblPr/>
              <a:tblGrid>
                <a:gridCol w="3962160"/>
                <a:gridCol w="1500120"/>
                <a:gridCol w="1500480"/>
                <a:gridCol w="13888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Крупецкой сельсовет» на 2022-2024 г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Крупецкого сельсовета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 граждан в муниципальном образовании «Крупецкой сельсовет»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Крупецкой сельсовет»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Крупецком сельсовете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21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85840" y="417600"/>
          <a:ext cx="8318520" cy="2224080"/>
        </p:xfrm>
        <a:graphic>
          <a:graphicData uri="http://schemas.openxmlformats.org/drawingml/2006/table">
            <a:tbl>
              <a:tblPr/>
              <a:tblGrid>
                <a:gridCol w="3429000"/>
                <a:gridCol w="1928880"/>
                <a:gridCol w="1571400"/>
                <a:gridCol w="1389240"/>
              </a:tblGrid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Крупецком сельсовете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2022-2024 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706320" y="268200"/>
            <a:ext cx="8023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643040" y="1714680"/>
            <a:ext cx="6500880" cy="36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Спасибо, что посетили информационный ресурс «Бюджет для граждан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341280" y="1311120"/>
            <a:ext cx="7967520" cy="1413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1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Территория 66,48 кв.км.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: общая численност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2198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 трудоспособного возраста: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1280 человек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Дети до 18 лет: 354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Численность  пенсионеров: 768 человек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rcRect l="5893" t="0" r="5893" b="0"/>
          <a:stretch/>
        </p:blipFill>
        <p:spPr>
          <a:xfrm>
            <a:off x="5857920" y="2000160"/>
            <a:ext cx="28573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15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468360" y="1268280"/>
            <a:ext cx="806436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юджет муниципального образования «Крупецкой сельсовет» на 2022-2024 годы формируется на три года,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Крупецкого сельсовета. В течении года  производится уточнение бюджета муниципального образования «Крупецкой сельсовет»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822240" y="2633760"/>
            <a:ext cx="3213360" cy="1809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PA180053"/>
          <p:cNvPicPr/>
          <p:nvPr/>
        </p:nvPicPr>
        <p:blipFill>
          <a:blip r:embed="rId3"/>
          <a:stretch/>
        </p:blipFill>
        <p:spPr>
          <a:xfrm>
            <a:off x="928800" y="2500200"/>
            <a:ext cx="3857400" cy="19288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28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0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юджет –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38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юджет муниципального образования «Крупецкой сельсовет» составлен и утвержден сроком на три год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2920" y="2084400"/>
            <a:ext cx="7491600" cy="68256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0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1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52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ных программах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6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7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259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5480" y="1071360"/>
            <a:ext cx="8358120" cy="423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6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7868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 муниципального образования «Крупецкой сельсовет» на 2022 год  и на плановый период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2022 и 2024 годов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2033640"/>
                <a:gridCol w="2357280"/>
                <a:gridCol w="2000520"/>
                <a:gridCol w="188892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6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6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8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ходы бюджета 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Крупецко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безвозмездные и безвозвратны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денежных средств в бюд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1" name="Прямая со стрелкой 5"/>
          <p:cNvCxnSpPr>
            <a:stCxn id="290" idx="6"/>
            <a:endCxn id="289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2" name="Прямая со стрелкой 7"/>
          <p:cNvCxnSpPr>
            <a:stCxn id="293" idx="2"/>
            <a:endCxn id="289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4" name="Прямая со стрелкой 12"/>
          <p:cNvCxnSpPr>
            <a:endCxn id="289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95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на безвозмездной и безвозвратной основе из областного бюджета (субсидии, субвенции), бюджета муниципального района(дотации, межбюджетные трансферты),а также перечисления от физических и юридических лиц (кроме налоговых и неналоговых доходов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ходы от использования муниципального 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ругие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30240" y="-6480"/>
            <a:ext cx="904068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Крупец</cp:lastModifiedBy>
  <dcterms:modified xsi:type="dcterms:W3CDTF">2024-03-20T11:50:17Z</dcterms:modified>
  <cp:revision>213</cp:revision>
  <dc:subject/>
  <dc:title>Презентация PowerPoint</dc:title>
</cp:coreProperties>
</file>