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CFC-9B38-4A00-A643-91B4AC51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168-5875-4BC5-BB94-77E9D014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DDE-C2F4-42AD-88A2-2E930E7B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52D-FED2-402F-B831-85EE9BC0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F1E8-A689-4A77-8B49-A246D0B1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494F-B558-42E7-883C-AC29C522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C0E3-11CF-462B-A375-9034574A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8201-51F6-4F46-950C-081082A5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7308-E108-4D05-9E74-E17752A5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D488-575E-4059-9332-761DB066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9B0F-0DB5-467A-9C6B-C203B0F8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925-8B60-4C3F-A834-3EE26B38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E8BB-2A1B-4FA4-B8CF-85D77936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8538-73DC-4DED-A302-FA7FA7E5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A364-7390-4B8B-BCF2-C3168862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5C37-02CA-402E-BA60-B470B5BC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3F99-96B2-4DCF-BC3B-D644E1D4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F27AB-EF36-4ED1-AEA1-A96ECFEA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1B028-75EA-43F7-807B-BE638910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1924E-D78F-4E74-9F0D-9829007F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7B967-530C-42B9-A849-53E924D5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D2E52-023B-42CC-BA12-116BB466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9A9-DF67-4C41-B658-3A7D8566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BFB37-74CF-4706-B540-16C72AF6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CC187-9154-45A1-88FA-87693ECA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BA403-BCCC-4C81-9522-04EE3309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279BB-35A0-43F5-93B6-FECC977E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83188-47D2-42E5-B99E-45E0ED4C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728B5-AE61-4224-8C9B-70F911FD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CFB16-6A91-48EA-B4A2-B01289B0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DE160-4676-4857-8D36-299E0FCA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66E72-03A6-4F15-90DD-FFF7ACA4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33C3F-2ADA-411F-B0DA-27AC3599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579-5750-4259-94A8-AB508E37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E077A-14F1-4333-BD29-640E4371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61E23-E892-4A25-9493-179F7318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114E1-2424-4881-B38C-3255D913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3B10E-C098-473A-AF40-6BF43EA3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403E3-219A-46C9-AB49-6DE590B2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52BE6-B44A-4B32-98C4-5667A125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1AA64-9032-40D0-A6A1-AAE2FD01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B0F28-DD03-4C48-B060-AE27AD26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1F93D-A284-4CA7-A8F9-E04D04EF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3BA-27C7-4E8E-A770-43B54E62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29B-A61F-4E64-A359-E1B083C0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ABC-275F-4274-BE6D-B4596839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1A4-D309-42E3-A3C8-67F95D94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2E0-6CA9-4671-ADDD-2EEEF098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6266-F2AE-4E44-BD9D-270E0923AA8C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523F-4F22-4761-A6D9-B8DCF897F13A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3708-21BC-4419-9130-3E5B53D675BD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1B55-75EF-4EAB-80FD-929FA6780A6E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Бюджет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для граждан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 проекту решения Собрания депутатов Крупецкого сельсовета Дмитриевского района Курской области от _____2022г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№ ____ «О бюджете муниципального образования «Крупецкой сельсовет» Дмитриевского района Кур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2023 год и на плановый период 2024 и 2025 годов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17" descr="http://cs106.vk.me/v106555/5a/N6Hs0Brnc-g.jpg"/>
          <p:cNvPicPr/>
          <p:nvPr/>
        </p:nvPicPr>
        <p:blipFill>
          <a:blip r:embed="rId2"/>
          <a:stretch/>
        </p:blipFill>
        <p:spPr>
          <a:xfrm>
            <a:off x="281160" y="353880"/>
            <a:ext cx="2651040" cy="1865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https://img-fotki.yandex.ru/get/6201/55543982.e0/0_b9b7c_dc20353d_L"/>
          <p:cNvPicPr/>
          <p:nvPr/>
        </p:nvPicPr>
        <p:blipFill>
          <a:blip r:embed="rId3"/>
          <a:stretch/>
        </p:blipFill>
        <p:spPr>
          <a:xfrm>
            <a:off x="6224760" y="2206800"/>
            <a:ext cx="2151000" cy="1616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http://cs403018.vk.me/v403018988/4228/4hyM1kjbv5M.jpg"/>
          <p:cNvPicPr/>
          <p:nvPr/>
        </p:nvPicPr>
        <p:blipFill>
          <a:blip r:embed="rId4"/>
          <a:stretch/>
        </p:blipFill>
        <p:spPr>
          <a:xfrm>
            <a:off x="3992400" y="328680"/>
            <a:ext cx="1092240" cy="126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SAM_3608"/>
          <p:cNvPicPr/>
          <p:nvPr/>
        </p:nvPicPr>
        <p:blipFill>
          <a:blip r:embed="rId5"/>
          <a:stretch/>
        </p:blipFill>
        <p:spPr>
          <a:xfrm>
            <a:off x="6143760" y="500040"/>
            <a:ext cx="2428920" cy="17146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9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6" descr="DSCF1639"/>
          <p:cNvPicPr/>
          <p:nvPr/>
        </p:nvPicPr>
        <p:blipFill>
          <a:blip r:embed="rId6"/>
          <a:stretch/>
        </p:blipFill>
        <p:spPr>
          <a:xfrm>
            <a:off x="3143160" y="214200"/>
            <a:ext cx="2857680" cy="20718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3" descr=""/>
          <p:cNvPicPr/>
          <p:nvPr/>
        </p:nvPicPr>
        <p:blipFill>
          <a:blip r:embed="rId1"/>
          <a:stretch/>
        </p:blipFill>
        <p:spPr>
          <a:xfrm>
            <a:off x="-506520" y="-1006560"/>
            <a:ext cx="9869760" cy="801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0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расходов бюджета  муниципального образования «Крупецкой сельсовет» по разделам бюджетной 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755640" y="836640"/>
          <a:ext cx="7848720" cy="3840120"/>
        </p:xfrm>
        <a:graphic>
          <a:graphicData uri="http://schemas.openxmlformats.org/drawingml/2006/table">
            <a:tbl>
              <a:tblPr/>
              <a:tblGrid>
                <a:gridCol w="511200"/>
                <a:gridCol w="2376360"/>
                <a:gridCol w="1785960"/>
                <a:gridCol w="1643040"/>
                <a:gridCol w="153216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8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условно утвержденные 10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07, 8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условно утвержденные 21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1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24000" y="549360"/>
          <a:ext cx="8351640" cy="3848040"/>
        </p:xfrm>
        <a:graphic>
          <a:graphicData uri="http://schemas.openxmlformats.org/drawingml/2006/table">
            <a:tbl>
              <a:tblPr/>
              <a:tblGrid>
                <a:gridCol w="3962160"/>
                <a:gridCol w="1500120"/>
                <a:gridCol w="1500480"/>
                <a:gridCol w="13888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оциальная поддержка  граждан  Крупецкого сельсовета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беспечение доступным и комфортным жильём и коммунальными услугами  граждан в муниципальном образовании «Крупецкой сельсовет»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упецкой сельсовет»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Развитие муниципальной службы в Крупецком сельсовете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21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85840" y="417600"/>
          <a:ext cx="8318520" cy="2224080"/>
        </p:xfrm>
        <a:graphic>
          <a:graphicData uri="http://schemas.openxmlformats.org/drawingml/2006/table">
            <a:tbl>
              <a:tblPr/>
              <a:tblGrid>
                <a:gridCol w="3429000"/>
                <a:gridCol w="1928880"/>
                <a:gridCol w="1571400"/>
                <a:gridCol w="13892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Профилактика правонарушений в Крупецком сельсовете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Защита населения и территории от чрезвычайных ситуаций, обеспечение пожарной безопасности и безопасности людей на водных объектах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706320" y="262080"/>
            <a:ext cx="802332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43040" y="1714680"/>
            <a:ext cx="6500880" cy="36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пасибо, что посетили информационный ресурс «Бюджет для граждан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341280" y="1311120"/>
            <a:ext cx="7967520" cy="1413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1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Территория 66,48 кв.км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: общая числ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2198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 трудоспособного возраста: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1280 человек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Дети до 18 лет: 354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Численность  пенсионеров: 768 челове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5893" t="0" r="5893" b="0"/>
          <a:stretch/>
        </p:blipFill>
        <p:spPr>
          <a:xfrm>
            <a:off x="5857920" y="2000160"/>
            <a:ext cx="28573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68360" y="1268280"/>
            <a:ext cx="8064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ект бюджета муниципального образования «Крупецкой сельсовет» на 2022-2024 годы формируется на три года,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Крупецкого сельсовета. В течении года  производится уточнение бюджета муниципального образования «Крупецкой сельсовет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822240" y="263376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PA180053"/>
          <p:cNvPicPr/>
          <p:nvPr/>
        </p:nvPicPr>
        <p:blipFill>
          <a:blip r:embed="rId3"/>
          <a:stretch/>
        </p:blipFill>
        <p:spPr>
          <a:xfrm>
            <a:off x="928800" y="2500200"/>
            <a:ext cx="3857400" cy="1928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8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8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юджет муниципального образования «Крупецкой сельсовет» составлен и утвержден сроком на три год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0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1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52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6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7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59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835812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6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сновные характеристики проекта бюджета муниципального образования «Крупецкой сельсовет» на 2023 год  и на плановый период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2024 и 2025 годов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2033640"/>
                <a:gridCol w="2357280"/>
                <a:gridCol w="2000520"/>
                <a:gridCol w="18889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0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8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0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8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Крупецко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1" name="Прямая со стрелкой 5"/>
          <p:cNvCxnSpPr>
            <a:stCxn id="290" idx="6"/>
            <a:endCxn id="289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2" name="Прямая со стрелкой 7"/>
          <p:cNvCxnSpPr>
            <a:stCxn id="293" idx="2"/>
            <a:endCxn id="289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4" name="Прямая со стрелкой 12"/>
          <p:cNvCxnSpPr>
            <a:endCxn id="289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95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, межбюджетные трансферты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ругие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30240" y="-6480"/>
            <a:ext cx="90345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Крупец</cp:lastModifiedBy>
  <dcterms:modified xsi:type="dcterms:W3CDTF">2024-03-20T09:02:50Z</dcterms:modified>
  <cp:revision>211</cp:revision>
  <dc:subject/>
  <dc:title>Презентация PowerPoint</dc:title>
</cp:coreProperties>
</file>