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652-D84A-4BD2-87DC-D1D397E2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920-D3C4-4FB1-B61E-93909F29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97D-DFB0-4115-AD6C-7F0C90D6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9E5-8A87-4B84-94F8-17EFA11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B5F4-3D61-4413-94B8-4C096F0A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474-CBBA-4913-AA50-9375090E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A65-33B1-44D2-B13E-0490450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2BCD-32E7-4A8A-8856-9E27F56B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8406-27E9-47A4-98DB-2C5CD1F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C4A-B63B-4C99-B797-14D6BC66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A872-CAAF-41FF-8DDD-590AB976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414-B56D-46B7-9DC8-3C174D0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28DA-D2FC-4A8F-8F82-2ABD240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F86E-10FB-4146-9908-88E28DBE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DAAF-314E-405C-BF44-B9E3A696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8650-CDA5-4103-850A-7DDC6120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9C78-7AA6-46DB-8D69-60A1BABE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ED04-85E9-4C09-A8C3-744795D5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067B-7C68-4C09-B976-1E39467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0012-8701-4DB3-9130-9DB2AF1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320F-697A-490B-BDBA-94313E9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7D9D-3F2A-4037-B984-C02507C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2AE-1A8B-4A40-9F46-16EFB19C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97D7-DB86-4D4D-913A-B9745E1D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05EC-6F85-4330-AB2B-3AACBB7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E671-6D96-4843-963A-6D758BC2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11D5-009B-4259-9B05-2AC8152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AD27-B0C6-4C75-9A2A-D576255C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FEEA-550C-48D3-A1DF-5FA47E8F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5B67-3ED4-4E60-9AC6-5C72BB4F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0D42-853E-493F-8BCC-E8537403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C766-7E82-4065-9D78-0A4B56E5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B56B-7DA8-4588-A51E-71AD1B2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9E6-67BF-4DD5-82A7-C2C51E7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2BE53-CCEC-45EC-A94E-45A972C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C305-2243-48B4-B6B6-755DB33D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B953-DC44-4FAC-94ED-9B262A97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C629-80FD-43AB-92F9-E5ACB01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59D24-FB92-43A0-8F15-6D2B447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43F5-287D-4963-81FB-E4CF5FF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2114-593F-4911-98B7-1C40BDA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7914-C9E9-4C2B-8323-680E5A99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35F3-7700-48D2-B2F0-71CC28D7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A42-BE0A-4F68-AD05-BB3AC98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C43-D8E5-446E-A258-72FC11AF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DA4-4506-43F7-AD44-5277CCB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1AF-7466-4DF6-923C-E6DA536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E79-C5EC-4264-A6AF-9F44DE10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D1D-D1B2-4D34-BABC-0DD948B128D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E70-5A0F-4940-8BCA-A2E95615A7D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F5A8-3016-498E-81B1-C222077E12A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C1FF-7440-44FC-AFE7-C7C6B35036D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  отчету «Об исполнении бюджета муниципального образования «Крупецко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а 2023 год и на плановый период 2024 и 2025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506520" y="-1006560"/>
            <a:ext cx="986976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84012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условно утвержденные 1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 8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словно утвержденные 2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384804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02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23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4 и 2025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7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89852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4-03-14T11:58:57Z</dcterms:modified>
  <cp:revision>215</cp:revision>
  <dc:subject/>
  <dc:title>Презентация PowerPoint</dc:title>
</cp:coreProperties>
</file>