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0BB-6B7A-4C48-9272-67DDB2D2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375-59BF-463A-B1A1-90EABEB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49B-F22A-4C30-A772-DC55EE53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EBD-AC1B-4246-8118-B0823B9A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3E82-5B59-444D-830B-AF679E2B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D754-77A3-4DAF-8E9C-5A7DF22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B250-4A1B-4BD9-AA66-CEA9A1D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A29-7069-4A13-BE9E-1FD66BF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884-A451-4A07-9686-E2B128D4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A07-A66F-4171-BB61-3BF7092C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16C6-8A43-48FC-B995-6ADE37ED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DE3-761A-4F9E-AF95-5789E54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AD5-773A-4FA0-97F1-9E8FBAC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6E7F-6A4B-4458-A5FD-A599BE3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C51-B687-40CD-9C15-B606AFF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0102-9E37-439E-8DFC-2D800620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CB4D-C561-4C2E-B6AE-C3FF0151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D6EC-0520-4181-85F7-7622C1D1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65E9-11D4-4020-8E9F-6BDAC0A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F54D-02ED-41E5-8F8F-A2B2D7B5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5F5E-871A-4DF7-8A8B-4DB83D8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7824-82FE-40E6-AAE3-3123D21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B88-3D27-417A-8313-266B038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FFD8-158E-4A4A-977A-1BB55143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FD5A-CDB3-45B2-8E87-E5F995D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0F01-6C64-4FA9-B7AA-D8A9D6D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E82D-DE84-437F-98AB-5609FF01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1C07-1953-4431-AFA9-AEF2841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4467-B3F0-44C2-A701-9880DD89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86AA-C9B5-4012-B307-B32087C2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E9CA-D2C0-46C3-8184-D394C130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C368-EAB2-4026-B974-307C007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793F-12FE-4C42-8DE6-CD1AF68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690-50AD-4DD6-837B-449A9F8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DB93-E558-4BCC-9FDB-ABDA13B5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BE27-C82B-4BFE-8DC1-3BC9F46D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530D-DCA5-4EF9-A19D-7B1B052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418A-772F-4128-A7E9-B304D20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E151-5210-42FA-ABC9-7BBF484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F81C-EC31-4013-81CB-F3ED81D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1802-0432-4A9C-86D4-B0E22D9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A78A-11C2-4DC6-BE6E-DAF43DA0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08F5-8E48-4E4D-8E50-C481CE5C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F64-8402-4979-B390-DFDA1CE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3B9-F3FE-4292-A22C-615B3D2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F0E-12B5-4B57-82F4-B24A1E2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633-DEA4-4256-8C99-4482E7B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AB5-2395-4BED-9154-E0754A2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6B75-7811-428E-BAFC-2112E2F5CE7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9A1-4A4E-4D0F-8010-4600B16ABB7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663-AEB8-4478-A0E6-275AC67FD9F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9C0-FDDF-43D8-9D04-348DE662576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5.12.2015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04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16 год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85680" y="-6480"/>
            <a:ext cx="9333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униципального образования «Крупецкой сельсовет»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Крупецкой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16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6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561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312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85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864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16 год утверждён однолетний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16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уплаты акцизов на нефтепродукты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12600" y="-6480"/>
            <a:ext cx="90392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user</cp:lastModifiedBy>
  <dcterms:modified xsi:type="dcterms:W3CDTF">2015-12-22T15:39:49Z</dcterms:modified>
  <cp:revision>165</cp:revision>
  <dc:subject/>
  <dc:title>Презентация PowerPoint</dc:title>
</cp:coreProperties>
</file>